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E98-3D40-46B2-A7CB-0C6F5A4A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132-E647-44F4-931F-02D51228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B85-C1C0-48EB-939E-25D3DB0D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404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388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404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6388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A88-D3A1-4165-B795-2BF24181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2A8B-F55D-4E40-A9CD-EA8B3678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B232-F54A-459B-9F6C-5B513B8F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5556-5348-49F9-B5FC-4F8E5247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B431-8CB6-4A51-927A-3FE999AB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5E0F-4E7C-4F6B-B3C4-0001AEAC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4038120"/>
            <a:ext cx="792468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D7ED-EA2F-425A-99D4-4F5AA1CB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5412-7BA7-4434-86E7-1731986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0C4-549D-4F64-AF1B-6F8C2150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0853-E6E0-4F2C-B901-CE8E6593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3835-E280-4246-91E1-43A0CC59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D659-2A52-4AD9-95A7-CAF5A8DD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C6C5-29B7-4E62-AD98-2ADE93EB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404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388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404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6388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CAA7-F089-4A03-BB7A-350A713E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980-9172-4933-BDC7-76BB29FE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F8D-0F5A-4F1B-969D-C26E33BB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303-FB35-4E19-BF5E-AC76337E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4038120"/>
            <a:ext cx="792468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138-670C-49CE-9C27-A2A5B309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01A-57B3-42D3-ADB8-AEA6CFE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371-5E12-4B66-B1B6-A4575AE2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5D1-525E-48C5-AE92-B93D74A8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5633-DB24-4185-95B8-35140056F60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5E26-C7FE-40DF-A0A6-5AD598F30BF8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mit ASP.NE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Grundlage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40080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Tahoma"/>
              </a:rPr>
              <a:t>Bonn-To-Code.NET, 18.04.2006, Albert Weinert, info@der-alber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Probleme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eine Allheilmitt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 gut wie kein Fallback mögli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Barrierefreihei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uchmaschinen Indizie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Benutzerfeedba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Lesezeichen und Histor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ostba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iewsta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atenübergabe an Cli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ur Tex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infach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fwendig zu verarbeit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XM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Komplexer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 DOM zu verarbeit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rowserunterschied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 XSLT transformier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atenübergabe an Cli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 Object Notation (JSON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omplexer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 Parsen notwendig (via eval()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Browserübergreifen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chneller und Platz sparender als XM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ingebautes „AJAX“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P.NET 1.1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nicht wirklich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P.NET 2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Client Callback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reeView (Populate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GridView (Sorting, Paging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DetailsView (Paging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Client Callbacks, Datenübergab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.NET Profession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ramework für „pures“ 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Clientseitiger Aufruf von Servermethod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ur „Remote Scripting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ur Datenaustaus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utomatische JSON Konvertie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xception Handl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quest-Warteschlang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AJAX mit Ajax.NET Pro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cherhei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Sicherhei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 ist einsehb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ingaben überprüf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quests nur auf der gleichen Domain mögli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-Aufrufe manipulierb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KAMMERJÄG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Javascript Debugging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Über mich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lbert Weinert</a:t>
            </a:r>
            <a:br>
              <a:rPr sz="3200"/>
            </a:b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ftwareentwickl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ngestellter und Freiberufl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.NET 2.0 seit Whidbey Beta 2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Entwicklung seit einem Jah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ftwareentwicklung schon ewi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bentwicklung halb so la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Debugge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kriptfehler anzeig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Debuggen im Visual Stud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kriptexplorer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Venkma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e Visual Studio Unterstütz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bugg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Fiddl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b Developer Tool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b Developer Tool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Live Http Head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Debugge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Mehr Auswahl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ostbacker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infachste Anwend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ndert immer komplette Sei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auscht geändertes HTM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rhält Viewsta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heoretisch Fallback möglic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rhöhte Serverbelast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e optimierten Control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mote Scripter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iner Datenautasc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Viewstate Problem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 Rendern der Seite auf Serv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Clientseitiges Render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Fallback sehr, sehr, sehr schwieri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erverlast gering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niger Datentransf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mehr Arbei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.NET Professio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mote Script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ComfortAS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agic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nthe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icrosoft Atla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, Remote Script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ertig Aus!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as ist 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as ist AJAX nich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per Ha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mit Ajax.NET Pr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Debugg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itere Framewor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ynchronous Javascript and XM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ombination vorhandener Technik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er Javascript abgerufene „Webseiten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ia XMLHttpRequest bzw. XmlHtt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inbringen des Ergebnisses in die Sei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Postbac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ist was man daraus macht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XMLHttpRequest Brows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 ab 5.0 (Active X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 ab 7.0 (Native, Active X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 ab 1.0 (Mozilla Suite, Seamonkey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afari ab 1.2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Opera ab 8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etscape ab 7.1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onquero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Cab ab 3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ekanntere AJAX Sit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Map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Sugges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indows Liv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indows Live Local (Virtual Earth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Calend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Wri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Einfaches AJAX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as ist AJAX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ückschritt in der Entwickl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ehrere Sprach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chwieriger zu Debugg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ehraufwand in der Entwickl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erlagerung vom Server auf den Clien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ist was man daraus mach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AJAX ist was man daraus macht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erbesserte Benutzerfüh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Postbac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Datenverkeh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chnellere Webs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49:12Z</dcterms:created>
  <dc:creator>aweinert</dc:creator>
  <dc:description/>
  <dc:language>en-US</dc:language>
  <cp:lastModifiedBy>Albert Weinert</cp:lastModifiedBy>
  <dcterms:modified xsi:type="dcterms:W3CDTF">2006-04-20T14:30:33Z</dcterms:modified>
  <cp:revision>24</cp:revision>
  <dc:subject/>
  <dc:title>AJAX mit ASP.NET</dc:title>
</cp:coreProperties>
</file>