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836A0B-44BE-4145-86B8-38FE95A84B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B463-8D98-41B4-A61F-96E26EDDCDD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02D293-D2BF-4B72-9182-19F62EFB5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F90A22-2F39-47C8-847D-F71BBA218B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B7272-17A1-4F47-B7C1-FC009B9EA6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2828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261320"/>
            <a:ext cx="264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5004F6-3C10-453B-B338-B0653DB6FC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9B4D56-0223-4BE1-A11B-7D5D39646BF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FE7DC-851D-4665-AA67-B9452BB5AF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360" y="691920"/>
            <a:ext cx="8229600" cy="434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67A57-8FC0-4EA8-885E-32D882E018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8D923A-15E9-4AB4-953B-072E5DEF02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426132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07805-9BF7-400E-81A6-2E8642A6CF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28280"/>
            <a:ext cx="40158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61320"/>
            <a:ext cx="82296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82E58-0F8F-4ADE-8C98-D2C5A1ED80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8120" indent="-26352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65320" indent="-2667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65320" indent="-266760">
              <a:spcBef>
                <a:spcPts val="60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80364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3CE8-6875-42D5-AF57-BA519052FF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rcRect l="0" t="6770" r="16624" b="5685"/>
          <a:stretch/>
        </p:blipFill>
        <p:spPr>
          <a:xfrm>
            <a:off x="0" y="0"/>
            <a:ext cx="9144000" cy="5763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68360" y="2852640"/>
            <a:ext cx="8229600" cy="57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20000" y="189000"/>
            <a:ext cx="2124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Verdana"/>
              </a:rPr>
              <a:t>bonn-to-code.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549360"/>
            <a:ext cx="9144000" cy="73080"/>
          </a:xfrm>
          <a:prstGeom prst="rect">
            <a:avLst/>
          </a:prstGeom>
          <a:gradFill rotWithShape="0">
            <a:gsLst>
              <a:gs pos="0">
                <a:srgbClr val="008000"/>
              </a:gs>
              <a:gs pos="100000">
                <a:srgbClr val="003b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692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0" y="5805360"/>
            <a:ext cx="3564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22160"/>
                <a:tab algn="l" pos="1266840"/>
                <a:tab algn="l" pos="1900080"/>
                <a:tab algn="l" pos="2533680"/>
                <a:tab algn="l" pos="3166920"/>
                <a:tab algn="l" pos="3800520"/>
                <a:tab algn="l" pos="4433760"/>
                <a:tab algn="l" pos="5067360"/>
                <a:tab algn="l" pos="5700600"/>
                <a:tab algn="l" pos="6334200"/>
                <a:tab algn="l" pos="6967440"/>
                <a:tab algn="l" pos="7601040"/>
                <a:tab algn="l" pos="8234280"/>
                <a:tab algn="l" pos="8867880"/>
                <a:tab algn="l" pos="9501120"/>
                <a:tab algn="l" pos="10134720"/>
                <a:tab algn="l" pos="10767960"/>
              </a:tabLst>
            </a:pPr>
            <a:r>
              <a:rPr b="0" i="1" lang="de-DE" sz="1400" spc="-1" strike="noStrike">
                <a:solidFill>
                  <a:srgbClr val="000000"/>
                </a:solidFill>
                <a:latin typeface="Verdana"/>
              </a:rPr>
              <a:t>EMail:</a:t>
            </a:r>
            <a:r>
              <a:rPr b="1" lang="de-DE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de-DE" sz="1400" spc="-1" strike="noStrike">
                <a:solidFill>
                  <a:srgbClr val="000000"/>
                </a:solidFill>
                <a:latin typeface="Verdana"/>
              </a:rPr>
              <a:t>Stefan.Lange@empira.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446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812880" indent="88920" algn="ctr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166760" indent="17784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695600" indent="102960" algn="ctr">
              <a:spcBef>
                <a:spcPts val="45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695600" indent="102960">
              <a:spcBef>
                <a:spcPts val="451"/>
              </a:spcBef>
              <a:buClr>
                <a:srgbClr val="0000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78920" y="2349000"/>
            <a:ext cx="8713800" cy="101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f69200"/>
                </a:solidFill>
                <a:latin typeface="Verdana"/>
              </a:rPr>
              <a:t>QuickTip: Remote Debugging</a:t>
            </a:r>
            <a:endParaRPr b="1" lang="en-US" sz="36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646080"/>
            <a:ext cx="6400800" cy="136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16.5.2006 –  Stefan Lange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mote Debugging?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Problem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 läuft auf Entwicklungsrechner probleml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 dem Produktivsystem passiert „gar nicht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Lös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nwendung auf Zielrechner remote debugg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Mit Visual Studio 2005 sehr viel einfacher als bis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Remote-Compu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28280"/>
            <a:ext cx="8218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raussetzungen für den Remote-Rech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rt des Remote Debugging Monitors (msvsmon.ex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Kann von einer Netzfreigabe gestartet wer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Installation ist ebenfalls mögl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lternativ lässt sich ein Dienst konfiguri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ortfreigaben können automatisch konfiguriert werd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476360" y="2565360"/>
          <a:ext cx="569268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2565360"/>
                    <a:ext cx="569268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Host-Computer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Vorraussetzungen für den Host-Rechner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isual Studio 2005 und Source-Code der Anwendu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Verbindung zum Prozess auf dem Remote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nmeldung am Remote-Rechner ist nur über einen Benutzer mit Administratorrechten mögli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COM Kommunikation muss ggf. in der Firewall freigegeben se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Trick: Auf Remote-Computer gleichen UserName und Passwort wie auf Host einrichten (ggf. Policy auf Host änder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DCOM Ports: TCP 135, ggf. UDP 4500 und 5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WinForms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buggen einer WinForms-Anwend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Start der Anwendung auf dem Remote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bugging-Informationen müssen vorhanden sein (pdb-Datei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Öffnen der Solution auf dem Host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ruf von Tools =&gt; Attach to Proces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 Prozess auf dem Remote-Rechner verbi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point setzen und warten bis das Programm dort anhä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Programm auf dem Remote-Rechner ausfüh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Programm hält am Breakpoint auf dem Host 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ASP.NET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4960" indent="-2649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000000"/>
                </a:solidFill>
                <a:latin typeface="Tahoma"/>
              </a:rPr>
              <a:t>Debuggen einer WebForms-Anwendung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Öffnen der Solution auf dem Host-Rech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ufruf von Tools =&gt; Attach to Process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Mit IIS-Dienst (aspnet_wp.exe oder w3wp.exe) verbi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Breakpoint setzen und warten bis die WebSite ausgeführt wi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2160" indent="-277560">
              <a:spcBef>
                <a:spcPts val="601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Tahoma"/>
              </a:rPr>
              <a:t>Aufruf der WebSite im Brow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bugging muss in web.config aktiviert sein (debug = tru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Der Debugger hält die WebSite am Breakpoint 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65320" indent="-263520">
              <a:spcBef>
                <a:spcPts val="499"/>
              </a:spcBef>
              <a:buClr>
                <a:srgbClr val="f69200"/>
              </a:buClr>
              <a:buFont typeface="Franklin Gothic Medium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Tahoma"/>
              </a:rPr>
              <a:t>Achtung: Alle WebSites dieses IIS-Prozesses werden angehal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649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936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69200"/>
                </a:solidFill>
                <a:latin typeface="Verdana"/>
              </a:rPr>
              <a:t>Verbindung herstellen</a:t>
            </a:r>
            <a:endParaRPr b="1" lang="en-US" sz="3200" spc="-1" strike="noStrike">
              <a:solidFill>
                <a:srgbClr val="f69200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47760" y="1814400"/>
            <a:ext cx="6647040" cy="46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0T20:54:38Z</dcterms:created>
  <dc:creator>Stefan Lange</dc:creator>
  <dc:description/>
  <dc:language>en-US</dc:language>
  <cp:lastModifiedBy>Stefan Lange</cp:lastModifiedBy>
  <dcterms:modified xsi:type="dcterms:W3CDTF">2006-05-18T17:26:41Z</dcterms:modified>
  <cp:revision>224</cp:revision>
  <dc:subject/>
  <dc:title>Remote Debugging</dc:title>
</cp:coreProperties>
</file>