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9F9B-5466-4887-9EE7-80F3DB23F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35EB-5DB3-42A9-9CEA-EB02407BC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2D34-75E6-45D7-A718-80AFD9D4A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63A9-8E4F-4E68-8889-02A0F3450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19AF-414F-4602-95D1-B26F681B0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1C30-5A93-470E-AAC6-3EB3DF5FD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E858-DF58-40EF-935F-D1F522859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A275-4701-4684-833A-4D73777E5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E740-5FDB-425F-ADBA-065FE325B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77F7-F560-4CA5-A85D-4442AF6E0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6D3A-F49C-4F46-BEE3-CC7DF6F16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4F66-D9AB-4CA0-8445-7755A84CF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8B0D-92BE-4B3C-955B-B107C86D1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logs.asp.net/rweigelt/archive/2006/05/16/446536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VS Editor Tun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Roland Weig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3989520"/>
            <a:ext cx="8280360" cy="159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dito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nchmal ist der Editor etwas "zäh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telli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ippen allgemein (auffällig z.B. in Kommentar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t ein wenig: NavigationBar absc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enerell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che benutzen sie ständig, andere gar ni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ch persönlich brauche sie ab und zu, will daher nicht darauf verzich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o: An/Abschalten, möglichst bequ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: 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Sub ToggleCSharpNavigationBar(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Dim objShowNavigationBar As EnvDTE.Property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 = DTE.Properties("TextEditor", "CSharp").Item("ShowNavigationBar")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    objShowNavigationBar.Value = Not objShowNavigationBar.Value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Tahoma"/>
              </a:rPr>
              <a:t>End Su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avigation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(Name egal, z.B. "Misc") oder Vorhand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Hotkey bele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Toolbar-Button defi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chte Maustaste auf Toolbar-Bereich -&gt; Custom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rliche Beschreibung in meinem Web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eblogs.asp.net/rweigelt/archive/2006/05/16/446536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[DEMO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5-16T16:29:13Z</dcterms:modified>
  <cp:revision>235</cp:revision>
  <dc:subject/>
  <dc:title>Slide 1</dc:title>
</cp:coreProperties>
</file>