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DF53-05E1-4923-B859-721F67D01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B16F-19A0-4351-A575-4606D8A09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C428-6D3D-483B-946A-91ECB075F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6A94-E80A-4137-ACB1-7B5FA7A84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8B80-F95A-4E9E-B0BD-FFA433FEE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F380-965F-4F65-B89A-5E7390D1C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5B52-F568-4524-826F-0749BDAAB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12D4-AE20-465E-9587-BBF26F162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56D2-AFE2-469B-8AFE-6A9DE58CB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6C2C-8262-4317-BF1C-E5F3187B2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94E8-7C7B-4514-B0E8-F0BF2CD81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3D71-C731-4236-91D4-848944AF3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2CCA-3350-4678-AD47-6C960A5F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dn.microsoft.com/asp.net/reference/infrastructure/wdp/default.aspx" TargetMode="External"/><Relationship Id="rId2" Type="http://schemas.openxmlformats.org/officeDocument/2006/relationships/hyperlink" Target="http://der-albert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5.2006 –  Albert Wein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@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 Deployment Projects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.microsoft.com/asp.net/reference/infrastructure/wdp/default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_Offline MS Build-Target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der-albert.co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(suche nach App_Off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ertig aus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s Deployment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bar über MSBuild-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fassung der Assembl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hrere Deployment Projekt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ie bisherige Funktionalitä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ployment Projekt er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.config Ersetzung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lettes ersetzen von Zwei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ein ändern von vorhandenen Einträ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prüfung auf Vollständigkeit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angabe mit XPath ohne &lt;configuration /&gt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Settings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ystem.web/compilation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Build Targ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84280"/>
            <a:ext cx="4680000" cy="5373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43200" y="1557360"/>
            <a:ext cx="1701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2000" y="2141640"/>
            <a:ext cx="17625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9960" y="2727360"/>
            <a:ext cx="2367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1880" y="3311640"/>
            <a:ext cx="18860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4360" y="3897360"/>
            <a:ext cx="19789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6880" y="4481640"/>
            <a:ext cx="16527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8720" y="5067360"/>
            <a:ext cx="36723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placeWeb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2960" y="5651640"/>
            <a:ext cx="31435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eateVirtualDir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16640" y="6237360"/>
            <a:ext cx="15296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628640"/>
            <a:ext cx="0" cy="4969080"/>
          </a:xfrm>
          <a:prstGeom prst="line">
            <a:avLst/>
          </a:prstGeom>
          <a:ln w="31680">
            <a:solidFill>
              <a:srgbClr val="00008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 Build 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semblies Zusammenfass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Seite (wie bish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Seiten und Controls, ohne spezielle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s Zusammenfas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y Version setz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tere Einstellu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aweinert</cp:lastModifiedBy>
  <dcterms:modified xsi:type="dcterms:W3CDTF">2006-05-16T15:10:42Z</dcterms:modified>
  <cp:revision>218</cp:revision>
  <dc:subject/>
  <dc:title>Slide 1</dc:title>
</cp:coreProperties>
</file>