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92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588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5940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3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3"/>
          </p:nvPr>
        </p:nvSpPr>
        <p:spPr>
          <a:xfrm>
            <a:off x="0" y="8685360"/>
            <a:ext cx="295920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64BE97-2974-4DC9-AD71-5DFAD0E1AF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6E5B6-C1DD-470E-83E8-3A645C3D2E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2170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60240"/>
            <a:ext cx="82170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9902D-F95B-4B7F-8456-2FE4E823D1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400" y="162828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6024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400" y="426024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CF1D7-74F6-48C4-B5E2-7795BD8C6A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26456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5320" y="1628280"/>
            <a:ext cx="26456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3440" y="1628280"/>
            <a:ext cx="26456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60240"/>
            <a:ext cx="26456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5320" y="4260240"/>
            <a:ext cx="26456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3440" y="4260240"/>
            <a:ext cx="26456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625DE-0CBB-4793-AA80-1CA304FCB9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628280"/>
            <a:ext cx="82170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2170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400968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400" y="1628280"/>
            <a:ext cx="400968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590040"/>
            <a:ext cx="82170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7400" y="1628280"/>
            <a:ext cx="400968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426024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628280"/>
            <a:ext cx="82170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C9D9F-A95E-4563-A1B1-D9749D1CAF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400968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7400" y="162828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7400" y="426024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7400" y="162828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260240"/>
            <a:ext cx="82170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2170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4260240"/>
            <a:ext cx="82170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7400" y="162828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26024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7400" y="426024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26456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5320" y="1628280"/>
            <a:ext cx="26456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3440" y="1628280"/>
            <a:ext cx="26456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4260240"/>
            <a:ext cx="26456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5320" y="4260240"/>
            <a:ext cx="26456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3440" y="4260240"/>
            <a:ext cx="26456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2170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E0B79-2629-492D-8D43-45291EAB31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400968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400" y="1628280"/>
            <a:ext cx="400968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35014-769A-41A4-A904-795FC9E0F5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DAB4A-BB44-4DD4-BC35-EC94BCE00C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590040"/>
            <a:ext cx="82170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C8F58-FD50-49B9-9B5F-7594D5035D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400" y="1628280"/>
            <a:ext cx="400968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6024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F5157-4A05-4006-ACD6-F357FA0B57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400968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400" y="162828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400" y="426024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4DCAB-1E50-4479-9DC9-0CF3F83842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400" y="162828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60240"/>
            <a:ext cx="82170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E7F43-4B23-4D6F-9968-2014DE4CB1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2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6840" y="1628280"/>
            <a:ext cx="82170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2360" indent="-252360">
              <a:lnSpc>
                <a:spcPct val="108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8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52360" indent="-257040">
              <a:lnSpc>
                <a:spcPct val="108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55600">
              <a:lnSpc>
                <a:spcPct val="108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66760">
              <a:lnSpc>
                <a:spcPct val="108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6676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6676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2076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325EF-3F66-4442-AACC-D05167C4C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2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2214360"/>
            <a:ext cx="87012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7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8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8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52360" indent="-257040">
              <a:lnSpc>
                <a:spcPct val="108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55600">
              <a:lnSpc>
                <a:spcPct val="108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66760">
              <a:lnSpc>
                <a:spcPct val="108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6676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6676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8920" y="2168280"/>
            <a:ext cx="8713800" cy="11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31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16.05.2006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31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Miroslaw Dobrzanski-Neuman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951520"/>
            <a:ext cx="3564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254240"/>
                <a:tab algn="l" pos="1887480"/>
                <a:tab algn="l" pos="2521080"/>
                <a:tab algn="l" pos="3154320"/>
                <a:tab algn="l" pos="3787920"/>
                <a:tab algn="l" pos="4421160"/>
                <a:tab algn="l" pos="5054760"/>
                <a:tab algn="l" pos="5688000"/>
                <a:tab algn="l" pos="6321600"/>
                <a:tab algn="l" pos="6954840"/>
                <a:tab algn="l" pos="7588080"/>
                <a:tab algn="l" pos="8229600"/>
                <a:tab algn="l" pos="8854920"/>
                <a:tab algn="l" pos="9488520"/>
                <a:tab algn="l" pos="10121760"/>
                <a:tab algn="l" pos="10755360"/>
                <a:tab algn="l" pos="10779120"/>
                <a:tab algn="l" pos="10780560"/>
                <a:tab algn="l" pos="1078236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iroslaw@faneu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254240"/>
                <a:tab algn="l" pos="1887480"/>
                <a:tab algn="l" pos="2521080"/>
                <a:tab algn="l" pos="3154320"/>
                <a:tab algn="l" pos="3787920"/>
                <a:tab algn="l" pos="4421160"/>
                <a:tab algn="l" pos="5054760"/>
                <a:tab algn="l" pos="5688000"/>
                <a:tab algn="l" pos="6321600"/>
                <a:tab algn="l" pos="6954840"/>
                <a:tab algn="l" pos="7588080"/>
                <a:tab algn="l" pos="8229600"/>
                <a:tab algn="l" pos="8854920"/>
                <a:tab algn="l" pos="9488520"/>
                <a:tab algn="l" pos="10121760"/>
                <a:tab algn="l" pos="10755360"/>
                <a:tab algn="l" pos="10779120"/>
                <a:tab algn="l" pos="10780560"/>
                <a:tab algn="l" pos="1078236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Web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faneu.de/mirosla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624960"/>
            <a:ext cx="822960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ctory Attribut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nnt das Produ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ialisierung sehr billig, umson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fzählung sehr einf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zialisierung erlaub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halten programmierb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609480"/>
            <a:ext cx="822492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3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Factor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r Factory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Überprüfung des Produkt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3886200"/>
            <a:ext cx="3600720" cy="20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abstr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FactoryAttrib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tionFactoryAttribute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Typ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t ==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u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hr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rgumentNullExcep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"t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!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ypeo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.IsAssignableFrom (t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hr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rgumentExcep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"t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abstr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reate 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54560" y="5157720"/>
            <a:ext cx="3240000" cy="525600"/>
          </a:xfrm>
          <a:prstGeom prst="borderCallout1">
            <a:avLst>
              <a:gd name="adj1" fmla="val 18750"/>
              <a:gd name="adj2" fmla="val -8333"/>
              <a:gd name="adj3" fmla="val 99791"/>
              <a:gd name="adj4" fmla="val -60259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t eher eine „Factory Method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56360" y="4165560"/>
            <a:ext cx="3240000" cy="720720"/>
          </a:xfrm>
          <a:prstGeom prst="borderCallout1">
            <a:avLst>
              <a:gd name="adj1" fmla="val 18750"/>
              <a:gd name="adj2" fmla="val -8333"/>
              <a:gd name="adj3" fmla="val 142277"/>
              <a:gd name="adj4" fmla="val -38060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r Produkte des Typen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56360" y="2851200"/>
            <a:ext cx="3240000" cy="752400"/>
          </a:xfrm>
          <a:prstGeom prst="borderCallout1">
            <a:avLst>
              <a:gd name="adj1" fmla="val 18750"/>
              <a:gd name="adj2" fmla="val -8333"/>
              <a:gd name="adj3" fmla="val 154995"/>
              <a:gd name="adj4" fmla="val -44435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 im Sinne abstrakte Kla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609480"/>
            <a:ext cx="822492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3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onkrete Fabrik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metrisiert mit Produktty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360360" y="3875040"/>
            <a:ext cx="4933800" cy="25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ttributeUsa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ttributeTarge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Assembly, AllowMultiple=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StdActionFactoryAttribu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FactoryAttrib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adon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ConstructorInf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_c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tdActionFactoryAttribute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Typ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ba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ci = t.GetConstructor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Typ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] { }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_ci ==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u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hr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rgumentExcep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"t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verr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reate 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_ci.Invoke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u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70360" y="1979640"/>
            <a:ext cx="3689280" cy="539640"/>
          </a:xfrm>
          <a:prstGeom prst="borderCallout1">
            <a:avLst>
              <a:gd name="adj1" fmla="val 18750"/>
              <a:gd name="adj2" fmla="val -8333"/>
              <a:gd name="adj3" fmla="val 366421"/>
              <a:gd name="adj4" fmla="val -17069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kannt auf Ebene der 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30720" y="2700360"/>
            <a:ext cx="3510000" cy="720720"/>
          </a:xfrm>
          <a:prstGeom prst="borderCallout1">
            <a:avLst>
              <a:gd name="adj1" fmla="val 18750"/>
              <a:gd name="adj2" fmla="val -8333"/>
              <a:gd name="adj3" fmla="val 174861"/>
              <a:gd name="adj4" fmla="val -23074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hrere Instanzen für verschiedene Produkte erlau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30720" y="4140360"/>
            <a:ext cx="3510000" cy="720720"/>
          </a:xfrm>
          <a:prstGeom prst="borderCallout1">
            <a:avLst>
              <a:gd name="adj1" fmla="val 18750"/>
              <a:gd name="adj2" fmla="val -8333"/>
              <a:gd name="adj3" fmla="val 130481"/>
              <a:gd name="adj4" fmla="val -39865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aufzurufende 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!!Parameter darf nicht null s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91120" y="5753160"/>
            <a:ext cx="3510000" cy="539640"/>
          </a:xfrm>
          <a:prstGeom prst="borderCallout1">
            <a:avLst>
              <a:gd name="adj1" fmla="val 18750"/>
              <a:gd name="adj2" fmla="val -8333"/>
              <a:gd name="adj3" fmla="val 67819"/>
              <a:gd name="adj4" fmla="val -52726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ugungsa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624960"/>
            <a:ext cx="822960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dere konkrete Fabrik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60360" y="2909880"/>
            <a:ext cx="6640560" cy="35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ttributeUsa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ttributeTarge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Assembly, AllowMultiple=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ConstantFactoryAttribu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FactoryAttrib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adon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ConstructorInf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_c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adon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_gui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adon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_na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adon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_val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stantFactoryAttribute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Typ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,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uid,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me,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val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ba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ci    = t.GetConstructor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Typ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] {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ypeo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ypeo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ypeo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}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_ci ==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u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hr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rgumentExcep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"t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guid  =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gu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name  = na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value = val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verr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reate 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_ci.Invoke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bje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] { _guid, _name, _value }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10160" y="2457360"/>
            <a:ext cx="3149640" cy="782640"/>
          </a:xfrm>
          <a:prstGeom prst="borderCallout1">
            <a:avLst>
              <a:gd name="adj1" fmla="val 18750"/>
              <a:gd name="adj2" fmla="val -8333"/>
              <a:gd name="adj3" fmla="val 195120"/>
              <a:gd name="adj4" fmla="val -30750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risiert mit Produkttyp und Produkteigenschaf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70720" y="5219640"/>
            <a:ext cx="2970000" cy="539640"/>
          </a:xfrm>
          <a:prstGeom prst="borderCallout1">
            <a:avLst>
              <a:gd name="adj1" fmla="val 18750"/>
              <a:gd name="adj2" fmla="val -8333"/>
              <a:gd name="adj3" fmla="val 133175"/>
              <a:gd name="adj4" fmla="val -51513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htige Instanz erzeu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624960"/>
            <a:ext cx="822960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 Zaub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360360" y="2025720"/>
            <a:ext cx="84596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ssembly: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StdActionFacto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ypeo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Pus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)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ssembly: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ConstantFactoryAttribu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ypeo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Consta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"A96DE5CD-8266-46ad-8546-40C2B02C72CA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"Pi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Ma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PI)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ssembly: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ConstantFactoryAttribu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ypeo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Consta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"3E8A646F-F1C6-4bf0-A203-099FEBC3DC89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"e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Ma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E)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040" y="2867040"/>
            <a:ext cx="863604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_load 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loadAssembly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ssemb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GetExecutingAssembly 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c =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ssemb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GetEntryAssembly ().Locatio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DirectoryInf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 =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DirectoryInf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Pa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GetDirectoryName (loc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FileInf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] fis = di.GetFiles (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"*PI.dll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forea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FileInf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i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loadAssembly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ssemb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LoadFile(fi.FullNam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_loadAssembly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ssemb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loadActions (as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_loadActions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ssemb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FactoryAttribu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] attrs =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FactoryAttribu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]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.GetCustomAttributes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ypeo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FactoryAttribu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fal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forea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FactoryAttribu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tt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tt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tem = att.Create 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actions[item.Guid] = ite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21320" y="2965320"/>
            <a:ext cx="2398680" cy="635040"/>
          </a:xfrm>
          <a:prstGeom prst="borderCallout1">
            <a:avLst>
              <a:gd name="adj1" fmla="val 18750"/>
              <a:gd name="adj2" fmla="val -8333"/>
              <a:gd name="adj3" fmla="val 45319"/>
              <a:gd name="adj4" fmla="val -71550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n geladenen Assemb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89640" y="3780000"/>
            <a:ext cx="2430360" cy="360360"/>
          </a:xfrm>
          <a:prstGeom prst="borderCallout1">
            <a:avLst>
              <a:gd name="adj1" fmla="val 18750"/>
              <a:gd name="adj2" fmla="val -8333"/>
              <a:gd name="adj3" fmla="val 49949"/>
              <a:gd name="adj4" fmla="val -107407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 den PlugIn'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89640" y="4319640"/>
            <a:ext cx="2430360" cy="720720"/>
          </a:xfrm>
          <a:prstGeom prst="borderCallout1">
            <a:avLst>
              <a:gd name="adj1" fmla="val 18750"/>
              <a:gd name="adj2" fmla="val -8333"/>
              <a:gd name="adj3" fmla="val 124935"/>
              <a:gd name="adj4" fmla="val -62962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globalen mit davon Abgeleit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389640" y="5219640"/>
            <a:ext cx="2430360" cy="720720"/>
          </a:xfrm>
          <a:prstGeom prst="borderCallout1">
            <a:avLst>
              <a:gd name="adj1" fmla="val 18750"/>
              <a:gd name="adj2" fmla="val -8333"/>
              <a:gd name="adj3" fmla="val 74958"/>
              <a:gd name="adj4" fmla="val -129629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stelle einen Prototy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88000" y="1530360"/>
            <a:ext cx="3149640" cy="539640"/>
          </a:xfrm>
          <a:prstGeom prst="borderCallout1">
            <a:avLst>
              <a:gd name="adj1" fmla="val 18750"/>
              <a:gd name="adj2" fmla="val -8333"/>
              <a:gd name="adj3" fmla="val 139972"/>
              <a:gd name="adj4" fmla="val -59611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krete Fabri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39560" y="3770280"/>
            <a:ext cx="2521080" cy="270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624960"/>
            <a:ext cx="822960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kteigenschaften / Bootstrap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ktedi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ialisieru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kterzeugu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3795840" y="2173320"/>
            <a:ext cx="4824360" cy="15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2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ProductEdit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User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adon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UID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"66A8D5F0-1E7C-4b60-B6D1-011257E83DD0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Produ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ewProduk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EditProdukt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Produ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oduk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WritePodukt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St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tream, Produkt produk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Produ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dProdukt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St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20720" y="4680000"/>
            <a:ext cx="1979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5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 Fa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00360" y="5040360"/>
            <a:ext cx="1800360" cy="12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00360" y="4680000"/>
            <a:ext cx="180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5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80000" y="5040360"/>
            <a:ext cx="1621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80000" y="4680000"/>
            <a:ext cx="1621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5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00360" y="4859280"/>
            <a:ext cx="9000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400720" y="4859280"/>
            <a:ext cx="10792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600360" y="5187960"/>
            <a:ext cx="166356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58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Produc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8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Produc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8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Produc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8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Produc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0720" y="5227560"/>
            <a:ext cx="1979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5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 Fa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20720" y="5767560"/>
            <a:ext cx="1979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5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 Fa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7840" y="3973680"/>
            <a:ext cx="218484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5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y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000" y="590400"/>
            <a:ext cx="821844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218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Zusammenfassu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2360" indent="-252360">
              <a:lnSpc>
                <a:spcPct val="108000"/>
              </a:lnSpc>
              <a:spcBef>
                <a:spcPts val="887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briken bzw. Metafabriken werden wie Prototypen behandel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2360" indent="-252360">
              <a:lnSpc>
                <a:spcPct val="108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rialisierung wird von der .NET Laufzeitumgebung durchgeführ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2360" indent="-252360">
              <a:lnSpc>
                <a:spcPct val="108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afabriken erstellen komplexe Fabrik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2360" indent="-252360">
              <a:lnSpc>
                <a:spcPct val="108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briken erstellen konkrete Produkt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651960" y="5219640"/>
            <a:ext cx="79974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5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 u="sng">
                <a:solidFill>
                  <a:srgbClr val="0000ff"/>
                </a:solidFill>
                <a:uFillTx/>
                <a:latin typeface="Arial"/>
              </a:rPr>
              <a:t>Eine Fabrik pro Produktty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624960"/>
            <a:ext cx="822960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Über mic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5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mierer, Archite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5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schung, Entwicklu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5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dows, Unix, Linu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5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C++, C#, (Jav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5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C, Web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5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5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-25 Jahre davon 10 berufl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604800"/>
            <a:ext cx="822312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28640"/>
            <a:ext cx="53038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as ist eine Class Factor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as sind Prototyp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kt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dizierte Fabrik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briken als Prototyp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otstrap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614160"/>
            <a:ext cx="8226360" cy="10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400720" y="2700360"/>
            <a:ext cx="2338200" cy="1440000"/>
            <a:chOff x="5400720" y="2700360"/>
            <a:chExt cx="2338200" cy="1440000"/>
          </a:xfrm>
        </p:grpSpPr>
        <p:grpSp>
          <p:nvGrpSpPr>
            <p:cNvPr id="109" name=""/>
            <p:cNvGrpSpPr/>
            <p:nvPr/>
          </p:nvGrpSpPr>
          <p:grpSpPr>
            <a:xfrm>
              <a:off x="5400720" y="2700360"/>
              <a:ext cx="2338200" cy="1440000"/>
              <a:chOff x="5400720" y="2700360"/>
              <a:chExt cx="2338200" cy="1440000"/>
            </a:xfrm>
          </p:grpSpPr>
          <p:sp>
            <p:nvSpPr>
              <p:cNvPr id="110" name=""/>
              <p:cNvSpPr/>
              <p:nvPr/>
            </p:nvSpPr>
            <p:spPr>
              <a:xfrm>
                <a:off x="5400720" y="2700360"/>
                <a:ext cx="2338200" cy="360000"/>
              </a:xfrm>
              <a:prstGeom prst="roundRect">
                <a:avLst>
                  <a:gd name="adj" fmla="val 44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acto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400720" y="3060360"/>
                <a:ext cx="2338200" cy="1080000"/>
              </a:xfrm>
              <a:prstGeom prst="roundRect">
                <a:avLst>
                  <a:gd name="adj" fmla="val 14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reateA (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1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reateB (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1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reateC (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4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93680"/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39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 Factor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3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93680"/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39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stellt Objekte eines bestimmte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3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93680"/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39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zahl der Objekttypen beschrän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3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93680"/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39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kte Namentlich bekan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080" y="1628280"/>
            <a:ext cx="401472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614160"/>
            <a:ext cx="8226360" cy="10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4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otyp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3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egränzte Anzahl von Objektty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3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n Basisty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3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kterzeugung durch Klon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2080" y="1628280"/>
            <a:ext cx="401472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300720" y="2700360"/>
            <a:ext cx="1619280" cy="2517840"/>
            <a:chOff x="6300720" y="2700360"/>
            <a:chExt cx="1619280" cy="2517840"/>
          </a:xfrm>
        </p:grpSpPr>
        <p:sp>
          <p:nvSpPr>
            <p:cNvPr id="118" name=""/>
            <p:cNvSpPr/>
            <p:nvPr/>
          </p:nvSpPr>
          <p:spPr>
            <a:xfrm>
              <a:off x="6300720" y="2700360"/>
              <a:ext cx="1619280" cy="2517840"/>
            </a:xfrm>
            <a:custGeom>
              <a:avLst/>
              <a:gdLst>
                <a:gd name="textAreaLeft" fmla="*/ 360 w 1619280"/>
                <a:gd name="textAreaRight" fmla="*/ 1618920 w 1619280"/>
                <a:gd name="textAreaTop" fmla="*/ 360 h 2517840"/>
                <a:gd name="textAreaBottom" fmla="*/ 2517480 h 2517840"/>
              </a:gdLst>
              <a:ahLst/>
              <a:rect l="textAreaLeft" t="textAreaTop" r="textAreaRight" b="textAreaBottom"/>
              <a:pathLst>
                <a:path w="21600" h="33583">
                  <a:moveTo>
                    <a:pt x="21" y="0"/>
                  </a:moveTo>
                  <a:arcTo wR="21" hR="21" stAng="16200000" swAng="-5400000"/>
                  <a:lnTo>
                    <a:pt x="0" y="33562"/>
                  </a:lnTo>
                  <a:arcTo wR="21" hR="21" stAng="10800000" swAng="-5400000"/>
                  <a:lnTo>
                    <a:pt x="21579" y="33583"/>
                  </a:lnTo>
                  <a:arcTo wR="21" hR="21" stAng="5400000" swAng="-5400000"/>
                  <a:lnTo>
                    <a:pt x="21600" y="21"/>
                  </a:lnTo>
                  <a:arcTo wR="21" hR="21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9640" y="2871360"/>
              <a:ext cx="1229040" cy="43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8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one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79640" y="3404520"/>
              <a:ext cx="1229040" cy="43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8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one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79640" y="3952080"/>
              <a:ext cx="1229040" cy="43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8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one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79640" y="4470840"/>
              <a:ext cx="1229040" cy="43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8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one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609480"/>
            <a:ext cx="822492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3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k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sdatenty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 (Gu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itor (Gu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ne 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 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754520" y="1994040"/>
            <a:ext cx="3706920" cy="32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abstr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adon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_na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g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_name;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otec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tion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name  = na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abstr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Guid    {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g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virtu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g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Empty;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abstr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Perform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IBoa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ar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abstr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lone  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624960"/>
            <a:ext cx="822960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stimmter Produk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360360" y="2411280"/>
            <a:ext cx="5791320" cy="36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intern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Pus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adon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UID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         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"7BB60E11-D823-4c8e-A361-3AE2699B5CDA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ush 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ba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"Push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verr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g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UID;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verr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erform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IBoa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ar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um =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Parse (board.Input,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CultureInf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CurrentUICultur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ard.Push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Dat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verr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lone 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Pus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89520" y="3324240"/>
            <a:ext cx="2430720" cy="539640"/>
          </a:xfrm>
          <a:prstGeom prst="borderCallout1">
            <a:avLst>
              <a:gd name="adj1" fmla="val 18750"/>
              <a:gd name="adj2" fmla="val -8333"/>
              <a:gd name="adj3" fmla="val -15722"/>
              <a:gd name="adj4" fmla="val -156754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stellen über Standard 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624960"/>
            <a:ext cx="822960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stimmter Produk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360360" y="2340000"/>
            <a:ext cx="4548240" cy="38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Internal 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Consta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adon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_gui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adon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_val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stant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uid,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me,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val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ba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na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guid  = gui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value = val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verr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erform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IBoa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ar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ard.Push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Dat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_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verr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g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_guid;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verr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reate 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Consta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_guid, Name, _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89520" y="3022560"/>
            <a:ext cx="2789280" cy="720720"/>
          </a:xfrm>
          <a:prstGeom prst="borderCallout1">
            <a:avLst>
              <a:gd name="adj1" fmla="val 18750"/>
              <a:gd name="adj2" fmla="val -8333"/>
              <a:gd name="adj3" fmla="val 40925"/>
              <a:gd name="adj4" fmla="val -41907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stellen über Benutzerdefinierten 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24960"/>
            <a:ext cx="822960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altung von Prototype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rialisier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e deserialisiere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nglet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52360" indent="-25236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roblem der klassischen Factory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e Elemente bekannt im Vorau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52360" indent="-25236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ochspezialisierte Factory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Kennt nur einen Produktty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rialisierte Fact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00000" y="5580000"/>
            <a:ext cx="5938920" cy="896760"/>
            <a:chOff x="900000" y="5580000"/>
            <a:chExt cx="5938920" cy="896760"/>
          </a:xfrm>
        </p:grpSpPr>
        <p:grpSp>
          <p:nvGrpSpPr>
            <p:cNvPr id="137" name=""/>
            <p:cNvGrpSpPr/>
            <p:nvPr/>
          </p:nvGrpSpPr>
          <p:grpSpPr>
            <a:xfrm>
              <a:off x="900000" y="5580000"/>
              <a:ext cx="2159280" cy="896760"/>
              <a:chOff x="900000" y="5580000"/>
              <a:chExt cx="2159280" cy="896760"/>
            </a:xfrm>
          </p:grpSpPr>
          <p:sp>
            <p:nvSpPr>
              <p:cNvPr id="138" name=""/>
              <p:cNvSpPr/>
              <p:nvPr/>
            </p:nvSpPr>
            <p:spPr>
              <a:xfrm>
                <a:off x="900000" y="5580000"/>
                <a:ext cx="2159280" cy="29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7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acto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0000" y="5877720"/>
                <a:ext cx="2159280" cy="599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7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reate (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680000" y="5580000"/>
              <a:ext cx="2158920" cy="896760"/>
              <a:chOff x="4680000" y="5580000"/>
              <a:chExt cx="2158920" cy="896760"/>
            </a:xfrm>
          </p:grpSpPr>
          <p:sp>
            <p:nvSpPr>
              <p:cNvPr id="141" name=""/>
              <p:cNvSpPr/>
              <p:nvPr/>
            </p:nvSpPr>
            <p:spPr>
              <a:xfrm>
                <a:off x="4680000" y="5580000"/>
                <a:ext cx="2158920" cy="29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7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roduk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680000" y="5877720"/>
                <a:ext cx="2158920" cy="599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7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lone (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2519280" y="6180120"/>
              <a:ext cx="2160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5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710240" y="1636560"/>
            <a:ext cx="4230720" cy="1621080"/>
          </a:xfrm>
          <a:prstGeom prst="borderCallout1">
            <a:avLst>
              <a:gd name="adj1" fmla="val 18750"/>
              <a:gd name="adj2" fmla="val -8333"/>
              <a:gd name="adj3" fmla="val 89958"/>
              <a:gd name="adj4" fmla="val -47162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</a:rPr>
              <a:t>Enum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priva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stati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readonl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</a:rPr>
              <a:t>Enumerat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_instance =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</a:rPr>
              <a:t>Enumerat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stati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</a:rPr>
              <a:t>Enumerat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ns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ge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</a:rPr>
              <a:t>Enumerat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_instance;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EnumeratePrototypes(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</a:rPr>
              <a:t>Ac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</a:rPr>
              <a:t>Ite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gt; actio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ne</cp:lastModifiedBy>
  <dcterms:modified xsi:type="dcterms:W3CDTF">2006-05-15T10:54:40Z</dcterms:modified>
  <cp:revision>1</cp:revision>
  <dc:subject/>
  <dc:title>Attributed Prototyped Class Factory</dc:title>
</cp:coreProperties>
</file>