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C02-6167-4617-8EEF-EDD971CF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896-DEDF-4807-91B8-1119FBAA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8A2-CFE2-4A68-8445-50F514C0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312-46FC-4F17-9561-7E185764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27E-B0FF-48EF-9905-FFEA78E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B72-4F66-40AA-AC88-7D316E2B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4DD-29E1-432C-A2D0-AF23C9F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32A-2ADA-401E-B11C-7015F0FD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4F9-74B1-461B-8311-769042FD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510-28F1-4094-B071-B923121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3CB-A480-4FBF-94B0-2484684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19B-E6CD-43DD-837D-A9AEB20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CCC-E255-4364-8F53-64178F6A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APPLICATION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84"/>
                </a:solidFill>
                <a:latin typeface="Square721 BdEx BT"/>
              </a:rPr>
              <a:t>MORITZ PFENN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984"/>
                </a:solidFill>
                <a:latin typeface="Square721 Ex BT"/>
              </a:rPr>
              <a:t>m.pfennig@futureproof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MINI-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41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ebuggen von Anwendungen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debuggen?  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UserScoped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62520" cy="17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344000" cy="32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isherig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ehrfacher Einsatz innerhalb einer 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apselung &amp; eigene Wrapper-K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IPersistComponent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Load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ave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gene 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teil durch Erweit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, -medium &amp; einiges meh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 per Attri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Custom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3440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utzerdefiniert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pertyGrid als gute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AUSBL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69628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3200400" cy="12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Anforder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nforderungen a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icherheitsrelevan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nwendung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enutzer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.NET 1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4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tellungen speichern mit .NET 1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gi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genentwicke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Management Application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649680"/>
            <a:ext cx="6408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ynam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ögliche Ty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ad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arsing, merging,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rogrammier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in aller K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nf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Typis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Flex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unter .NET 2.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Weitere grundlegend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rchitektur ermöglicht klare Tr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Persistenzmecha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S 2005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chränkungen der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sual Studio Add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icrosoft Office Add-Ins &amp; Projekte (V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trols, gehostet im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ung sicherheitsrelevant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8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swertung zur Lauf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gabe: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Häufig verwendeten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faultSetting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Brow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ispla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valid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er Ereigni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Property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ancelEvent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4:11:52Z</dcterms:created>
  <dc:creator>Moritz Pfennig</dc:creator>
  <dc:description/>
  <dc:language>en-US</dc:language>
  <cp:lastModifiedBy>mo</cp:lastModifiedBy>
  <dcterms:modified xsi:type="dcterms:W3CDTF">2006-07-19T15:51:43Z</dcterms:modified>
  <cp:revision>78</cp:revision>
  <dc:subject/>
  <dc:title>Folie 1</dc:title>
</cp:coreProperties>
</file>