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EDA3-55C4-4327-90EA-EF2E819E1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4E81-BF52-4AEC-AC56-283B4B994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E0DE-5323-401A-B3F9-0B3CCC000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2165-2371-4747-8935-93D38713C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2C1B-397D-44A7-B25C-4D094FA1F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0D9F-5B4B-4976-ACF5-12427D8AA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3849-3D2E-46C1-BDF0-F3B66E0CA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7B69-D3C6-4231-B9FC-269D1D0BD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0078-8CDD-458F-ACB6-2EF813005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A4CF-24D2-4E2B-A1B4-AE73C7691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B6EE-A96E-4E31-BCFF-B76BD1C41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E0DD-8BEC-4D21-BAFA-D370226A2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E8CB-6B69-473E-A5BF-66EDD14C0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hannel9.msdn.com/wiki/default.aspx/MSBuild.HomePage" TargetMode="External"/><Relationship Id="rId2" Type="http://schemas.openxmlformats.org/officeDocument/2006/relationships/hyperlink" Target="http://msdn2.microsoft.com/en-us/library/0k6kkbsd.aspx" TargetMode="External"/><Relationship Id="rId3" Type="http://schemas.openxmlformats.org/officeDocument/2006/relationships/hyperlink" Target="http://lab.msdn.microsoft.com/vs2005/teams/msbuild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inführung in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Build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rge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muß mindestens 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habe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die Klammer für meherer Aufgaben (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)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m Aufruf von msbuild kann per Commandline das Target angegeben werden (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target:Clean;Build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Aufgabe1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&lt;!-- Tasks !--&g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kann ein Attribut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definieren, dass alle Targets beinhaltet, die ausgeführt werden, wenn kein Target auf der Commandline angegeben wird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Projec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xmln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="http://schemas.microsoft.com/developer/msbuild/2003"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= "target1;target2"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eine Aufgabe, die MS Build erledigen soll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an kann sowohl auf "eingebaute" als auch auf selbst- bzw. fremdentwickelte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zurückgreif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CreateReleaseDirectories"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MakeDir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Directories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$(MSBuildProjectDirectory)\release\bin" /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Jeder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sitzt zusätzlich noch ein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ContinueOnError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– Attribut (Default=false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Hat dieses Attribut den Wert "true", so wird das Abarbeitung des Projekt trotz eines Fehlers des Tasks fortgesetzt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m Standardfall wird die Abarbeitung bei einem Fehler eines Tasks sofort abgebroch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ding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und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können mit Hilfe des Condition-Attribut bedingt ausgeführ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Choose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Elements kann man Items und Properties  begingt setz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Debug' "&gt;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mp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UnitTest\*.cs"/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retail' 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643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MyItem Include="Source\Program.cs" 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637000"/>
          <a:ext cx="7632720" cy="2893680"/>
        </p:xfrm>
        <a:graphic>
          <a:graphicData uri="http://schemas.openxmlformats.org/drawingml/2006/table">
            <a:tbl>
              <a:tblPr/>
              <a:tblGrid>
                <a:gridCol w="2019240"/>
                <a:gridCol w="5613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ullPat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MyProject\Source\Program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oot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ilen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Ext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lat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Dire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Project\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curs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the Include attribute contains the wildcard **, this metadata specifies the directory that replaced the wildcard to find the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Kopieren eines Verzeichnis inkl. Unterverzeichni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:\versionX\src\**\*.*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pyFolder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Destination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-&gt;'c:\backup\%(RecursiveDir)%(Filename)%(Extension)')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auen von c# Projekten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All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ing debug config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Debug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Release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Build" eines Deployment Projektes ".vdproj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C:\Programme\Microsoft Visual Studio 8\Common7\I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Proj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Exe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mman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\devenv.exe /build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Projekt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MS Build Commandlin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msbuild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Switche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 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ProjectFile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target: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target:Resources;Compi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property:name=value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property:WarningLevel=2;OutputDir=bin\Debu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itere Parameter betreffen Logging und Hilfe (/?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den Standard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er Commandline steuer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noconsole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chaltet den Logger ab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consoleloggerparameters: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formance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ItemAndPropertyLi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verbosity: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q[uiet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[inimal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[ormal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[etailed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ag[nostic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Jeder Build kann zusätzlich zur "normalen" Bildschirmausgabe mit Hilfe ein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rotokolliert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sich entweder einen eigenen Logger schreiben oder auf bereits vorhandene zurückgreif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jede von ILogger abgeleitete Klasse nutz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ufrufbeispiel: </a:t>
            </a:r>
            <a:br>
              <a:rPr sz="18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MSBuild /nologo /noconsolelogger /logger:MyLogger.dl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eispiel für die Ableitung eines Loggers: siehe MSD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as ist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o finde ich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bau einer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onenten eine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sourc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Einbinden von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mpor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– Tasks können Targets aus einem Projekt in ein anderes eingebunden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Impor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my.proj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Anwendungsgebiete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binden von Einstellungen und Pfaden (z.B. SourceSafe, Developerstudio,etc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Tasks Outpu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 können mit Hilfe von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Outpu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-Attributen Werte an das Projekt zurückgeben, die danach weiter verwendet werden könn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CS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WarningLevel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WarningLevel)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utpu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askParamete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Assembly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tem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EXEF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Schreibt den Namen der Assembly in die ItemGroup mit dem Namen ExeFi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: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EXE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Schreiben eines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m einen eigenen </a:t>
            </a:r>
            <a:r>
              <a:rPr b="1" lang="de-DE" sz="1800" spc="-1" strike="noStrike">
                <a:solidFill>
                  <a:srgbClr val="99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zu schreiben, muß man eine Assembly erzeugen. Jede von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.Tas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bgeleitete Klasse steht später als Task zur Verfügung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ie Assembly benötigt Referenzen auf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1800"/>
            </a:b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Framewor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amit man den Task später in einem Projekt nutzen kann, muß man einen UsingTask ins Projekt einfüg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990000"/>
                </a:solidFill>
                <a:latin typeface="Courier New"/>
              </a:rPr>
              <a:t>Using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TaskN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NameSpace.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AssemblyF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AssemblyName.d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ispiel: Time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System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Utilities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Framework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namespac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ime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 cla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Ge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: Microsoft.Build.Utilities.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str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m_CurrentTime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overrid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bool Execute(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_CurrentTime = DateTime.Now.ToString("</a:t>
            </a:r>
            <a:r>
              <a:rPr b="0" sz="1400" spc="-1" strike="noStrike">
                <a:solidFill>
                  <a:srgbClr val="990000"/>
                </a:solidFill>
                <a:latin typeface="Courier New"/>
              </a:rPr>
              <a:t>MM/dd/yyyy HH:mm: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tru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[Output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string Tim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et { return m_CurrentTime; 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hannel9.msdn.com/wiki/default.aspx/MSBuild.HomePag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msdn2.microsoft.com/en-us/library/0k6kkbsd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ttp://msdn.microsoft.com/msdnmag/issues/06/06/InsideMSBuild/default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lab.msdn.microsoft.com/vs2005/teams/msbuild/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crosoft Services (UK) Enterprise Solutions Build Framework (SBF)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(SDC – Tasks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ttp://www.gotdotnet.com/codegallery/codegallery.aspx?id=b4d6499f-0020-4771-a305-c156498db75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ist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ein Werkzeug mit dem ma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alles automatisieren kann, wa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.NET Cod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 Kommandozeil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Projektformat ist eine XML Datei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steht als Kommandozeile oder als .NET Klasse zur Verfügung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tokollierung kann mit Hilfe von selbst definierten Loggen angepass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o finde ich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Bestandteil des .NET – Framework 2.0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Kommandozeilentool findet man in %windows%\Microsoft.NET\Framework\v2.0.5072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.NET Komponente befindet sich in der Assembly: Microsoft.Build.Engine.d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fbau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jektdatei ist ein XML – Fil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Minimalprojekt sieht wie folgt aus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Tasks, ...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!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--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pp: Die Tags sind case sensitive !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500280"/>
            <a:ext cx="7786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Beispiel fuer das Kopieren einer Datei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="backup_win_ini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win.ini in das Verzeichnis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 des B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uildprojekt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kopieren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c:\windows\win.ini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DestinationFolder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$(MSBuildProjectDirectory)„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n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13600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stellen Eingaben dar und werden in Gruppen (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) mit Hilfe von benutzerdefinierten Listennamen eingeteilt. Diese Eingaben können als Parameter für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benutzt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1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2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Referenzierung der 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m Projekt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CollectionNam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ier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lang="de-DE" sz="18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tems können auch Wildcards enthalte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Ex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"DoNotBuild.cs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images\**\*.jpg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können zusätzlich Metadaten erhalt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One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ohn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Two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ane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Metadaten können dann z.B. in Bedingungen ausgewertet werden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"Batch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%(autor)' == 'John Doe' 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tems können auch per "Output" von Tasks befüll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Properti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genschaften stellen key/value paare dar, die zur Konfiguration benutzt werden könn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roperties werden als Kinder des "PropertyGroup" Elements deklariert.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Build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Zugriff aus dem Projekt: 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$(PropertyName)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Werte von Properties können per Commandline beim Aufruf von MSBuild gesetzt werden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/property:BuildDir=c:\temp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Folgende Eigenschaften sind vordefiniert: vordefinierte Eigenschafte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7-19T17:41:46Z</dcterms:modified>
  <cp:revision>250</cp:revision>
  <dc:subject/>
  <dc:title>Einführung in MS Build</dc:title>
</cp:coreProperties>
</file>