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F7FB-692F-4765-8F9D-A36EC944C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E7F4-F497-489C-A41C-E356DB1C5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3B64-B798-46EF-9821-12C87DE93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8DFC-63AB-4BF6-AC8D-B2545EA49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C777-48EA-4057-8687-DDEC1CB3C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E539-E2DB-4C67-A649-40C9886E4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0BB2-06D5-4424-A826-8EC16D177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03BA-9CDD-4E4F-9A9C-A06590ACE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5518-27D7-43EF-94AC-B92FDF68B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1613-97CE-43A0-BC79-D26E97171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7E3A-476D-4B7D-B343-A794F8B3D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94AA-00CA-4F71-8F14-9EE19F479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D49A-6F4A-438F-B5ED-0E1BCDC2B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tact@jens-schaller.de" TargetMode="External"/><Relationship Id="rId2" Type="http://schemas.openxmlformats.org/officeDocument/2006/relationships/hyperlink" Target="http://jens-schaller.de/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deproject.com/macro/collapseall.a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 Tip: „Collapse all“ Makr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contact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292428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Größere Solutions werden im ausgeklappten Zustand schnell unübersichtlic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628640"/>
          <a:ext cx="17398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1739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llapseAl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.B. Ctrl-ä -&gt; Col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„CollapseAll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tkeys bele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ownload: </a:t>
            </a:r>
            <a:r>
              <a:rPr b="1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odeproject.com/macro/collapseall.as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ens Schaller</cp:lastModifiedBy>
  <dcterms:modified xsi:type="dcterms:W3CDTF">2006-07-17T20:33:20Z</dcterms:modified>
  <cp:revision>221</cp:revision>
  <dc:subject/>
  <dc:title>Slide 1</dc:title>
</cp:coreProperties>
</file>