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9F8F8-7279-4031-B0BD-2BAE494AEA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0641A-7C8F-4AA2-97B4-C24761940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3AC67-DDC3-4A1B-8982-0A656B799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F1B87-40AC-44A1-A29B-467C851DC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F0FE3-9EA0-42AF-9CE2-324B5824CD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9A4CE-AE33-4B56-A33F-47F6981C9A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5D245-BE97-4AF0-B629-C3894A1528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08D3-59F6-4404-86BD-F394AB824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9FC89-5363-4F4B-84DD-E851DEB1D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6A649-2274-45F6-B719-2AA9145349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6DA70-B424-4DED-8817-6B7361F2F3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C13F-7D9E-4FBC-B666-4F95614820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9C2FD-231F-4348-80BE-F935B93EA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tdotnet.com/workspaces/workspace.aspx?id=6b1aceda-e613-4dac-beeb-0cd8ad8f2d41" TargetMode="External"/><Relationship Id="rId2" Type="http://schemas.openxmlformats.org/officeDocument/2006/relationships/hyperlink" Target="http://www.gotdotnet.com/workspaces/workspace.aspx?id=6b1aceda-e613-4dac-beeb-0cd8ad8f2d41" TargetMode="External"/><Relationship Id="rId3" Type="http://schemas.openxmlformats.org/officeDocument/2006/relationships/hyperlink" Target="http://www.gotdotnet.com/workspaces/workspace.aspx?id=6b1aceda-e613-4dac-beeb-0cd8ad8f2d41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: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22.8.2006 –  Roland Weige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nuelle Installation: ZIP-Datei kop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reckt aber sicherlich bestimmte Anwender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orteil für Profis: Erster Blick in das Template (und seine Qualität) ohne Installation mög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stallation über V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SI: (umbenanntes) ZIP, enthält Template sowie XML für Meta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arnung, wenn nicht sig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Studio Content Installer Power To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2"/>
              </a:rPr>
              <a:t>www.gotdotnet.com/workspaces/workspace.aspx?id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3"/>
              </a:rPr>
              <a:t>=6b1aceda-e613-4dac-beeb-0cd8ad8f2d4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wer Toy nicht 100%ig überzeugend, aber ok für Einsti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lassisch: Installation über M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My Documents" ist im Setup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"professionelleres" Auss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 Möglichk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übliche MSI-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er Code in Installer-Kl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r Blick in die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VSTemplate Version="2.0.0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ns="http://schemas.microsoft.com/developer/vstemplate/2005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="Item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faultName&gt;MyTemplate.cs&lt;/Default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Name&gt;MyTemplate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scription&gt;This is the description of the template&lt;/Descript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Type&gt;CSharp&lt;/ProjectTyp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SortOrder&gt;10&lt;/SortOrd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Icon&gt;__TemplateIcon.ico&lt;/Ic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References 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Item SubType="Code" TargetFileName="$fileinputname$.cs"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laceParameters="true"&gt;DemoFile.cs&lt;/ProjectItem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VSTemplat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Dat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auptsächlich Infos für Auswahldi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Assemblies werden benöti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ispiel: TestFixture für N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Dateien werden hinzugefü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ProjectIte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schreibung einer einzelnen Dat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Beschreibung aller Tags in der MSDN Library unt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"Visual Studio Template Schema Referenc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Collections.Generic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Tex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mespa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rootnamespac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Initializes a new instance of the &lt;see cref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"/&gt; clas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etzung muss explizit aktivier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rojectItem ... ReplaceParameters="true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ichwort "Template Parameter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ootnamespac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e Template-Parameter (Forts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clrvers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2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...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0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machine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egisteredorganizat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D/MM/YYYY 00:00: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domai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year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YYY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sätzlich: Eigen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1 (statisch): Custom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1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1"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2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2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/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emplateCont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sfall: Ein Template in verschiedenen, leicht unterschiedlichen Varia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2 (dynamisch): Wiz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diesem Zusammenha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zard == C#-Klasse, die IWizard implementi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pace Microsoft.VisualStudio.TemplateWi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semb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.VisualStudio.TemplateWizard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icht notwendigerweise GUI involvier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Visual Studio über Automation (EnvDTE.DTE) möglich d.h. Zugriff auf Projekte, Settings, Dateien, etc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ch für "Wizards" ohne GUI interess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llen eigener 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zards für komplexere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chtig in IWizard für Item Templ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c void RunStarted(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 automationObject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ctionary&lt;string, string&gt; replacementsDictionary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izardRunKind runKind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[] customPara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mentsDictionary enthäl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rsetzu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91920" indent="-26064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z.B. Key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$MyParameter$"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Value 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The Value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de in RunStarted füllt Diction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public bool ShouldAddProjectItem(</a:t>
            </a:r>
            <a:r>
              <a:rPr b="0" lang="de-DE" sz="2400" spc="-1" strike="noStrike">
                <a:solidFill>
                  <a:srgbClr val="c0c0c0"/>
                </a:solidFill>
                <a:latin typeface="Tahoma"/>
              </a:rPr>
              <a:t>string filePath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rue = Datei wird hinzugefü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la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 implementieren, Assembly sig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ipp: Bei komplexen Wizards ggf. mehrere Assemblies mit </a:t>
            </a: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ILMerg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u einer zusammenfassen (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eniger "Müll" im Verzeichn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ut Microsoft Dokumentation: Ablage in G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tlich passender: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:\Program Files\Microsoft Visual Studio 8\Common7\IDE\PublicAssemb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lasse in .vstemplate referenz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en Wizard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sual Studio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oder mehrere Date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n müssen in vstemplate-Datei angegeben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xtdateien auf Wunsch mit Textersetz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etzung kann durch .NET-Code gesteuer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beit mit Visual Studio: Selten "Start bei Nul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jekte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ndows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nsol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teien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#-Kla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rmul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2421000"/>
            <a:ext cx="287280" cy="172872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Project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5013360"/>
            <a:ext cx="287280" cy="122400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Item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liebige Dateien, nicht nur Quell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I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tei Icon1.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robe Vorlage in 32x32 und 16x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onderbehandlung von Text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setzung von Text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abhängig vom Dateina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ch mehrere 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Window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ndowsForm1.cs, WindowsForm1.Designer.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Anm.: WindowsForm1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.resx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gehört nicht zum Templ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s vollkommen Neues in Visual Studio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nzept aus früheren Versionen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er nun deutlich einfa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sprechend dem Microsoft-Trend: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ML-Datei für Metadaten (.vstempl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tei(en) für das eigentliche Templ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tional: Ic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zeige in Auswahldialog in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ch möglich: Referenz auf Icon in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m Inhalt der ZIP-Datei später mehr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IP-Datei: Ablage in speziellem Ord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System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gelieferte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.B. Class.z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:\Program Files\Microsoft Visual Studio 8\Common7\IDE\ItemTemplates\CSharp\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10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1033: Englisches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User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i="1" lang="pt-BR" sz="24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\Visual Studio 2005\Templates\ItemTemplates\Visual C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in Unter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 beachten bei Ablage in System-Ordner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nderungen nicht sofort wirks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l helfen: devenv.exe /installvs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teilte Meinungen, ob es funktio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fährlicher Tip: devenv.exe /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tzt auch andere Einstellungen zurü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llte stets allerletztes Mittel s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vorher Backup der Setting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nn nicht unbedingt nötig: Finger w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lage lieber in User-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Ordner unterhalb vo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rvig: Unterordner wird per Default mark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400" indent="-2581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rtOrder hat keinen Einflu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224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8-23T15:34:12Z</dcterms:modified>
  <cp:revision>311</cp:revision>
  <dc:subject/>
  <dc:title>Slide 1</dc:title>
</cp:coreProperties>
</file>