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10FC-A114-41D5-BD09-4AC37DE1E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DA2B-AD5A-4F22-99AC-25A74C4AC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2AB0-59BC-4F49-9D27-8D7D2E8E1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39A8-0364-43EE-B69C-58784D8A4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7BEF-7545-4B8A-8B4D-C5CE32D11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6B7C-7F75-4E31-AE08-B88D78B9A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71D6-4F6B-46B6-8AF2-5CBFF73F5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D784-9B79-4C6B-BCA3-53B831745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CD44-E06A-4C83-B664-8E144593D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3D52-6839-43A0-91BB-E96DE124A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B143-8781-4948-8404-110EF6AAB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61E0-A025-49FB-8B07-EAF1F37F7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ABB-7878-4D3C-978E-74B8973E4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tipp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- / 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9.08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tzen und Entfer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etzen/Entfernen via F9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a Breakpoint Window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Alt + F9 oder Menü "Debug\Windows\Breakpoints" 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ick auf den "Punkt" bzw. graue Leiste am linken Rand des Sourceco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en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ontextmenü auf "Punkt" in grauer Leis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swählen des Breakpoints im Breakpoint Window + Kontextmen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e Anpass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dingung 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(nicht in Express-Editionen)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erfüllt sei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sich änder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it Cou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= einem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ein vielfaches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&gt;=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ann ein Filter spezifiziert werden, der beschreibt wann der Breakpoint anschlagen soll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ierfür stehen u.a. virtuelle Variablen für ProcessId, ProcessName, ThreadId, ThreadName und MachineNam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.h. man kann einen Breakpoint einrichten, der nur in einem Thread zuschläg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n den Breakpoint - Eigenschaften "When Breakpoint Is Hit"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gendes kann eingestellt werden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"Print a message" = Trace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an kann Variablen, Ausdrücke und spezielle virtuelle Variabl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$FUNCTION, $CALLER, $CALLSTACK, Process/Thread-ID's und –Na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uf der Standardausgabe (TRACE) ausgeben lassen ohne den Code zu modifizi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Run a macro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kann ein bel. Macro ausgeführt wer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Continue execu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wird nicht angehalten, sondern weiter ausgefüh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8-19T06:45:05Z</dcterms:modified>
  <cp:revision>252</cp:revision>
  <dc:subject/>
  <dc:title>Einführung in MS Build</dc:title>
</cp:coreProperties>
</file>