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225B-9F26-486E-9246-0A3C648A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paar Worte vorw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Vortrag ist im Rahmen einer Evaluierung entstanden und stützt sich nicht auf intensive Praxiserfah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unkte wurde nur der Vollständigkeit halber aus der Doku aufgen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9706-5CE3-4979-BB90-1A5D9B6A2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F121-9663-4AAD-8314-F070C66D0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FC30-4049-43F0-9D1F-A1310D1E7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5047-956D-487B-A90D-79ACD77BA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3C12-97E1-4DBB-A190-4FDA849D8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FEFF-F938-4792-A128-98874247E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22E2-8B75-447C-B50D-40BDF119C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156F-06BA-462C-AEE1-61C109046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087F-9266-4CC8-873A-8C25DC258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FA90-7634-4276-B2DC-FD74BEF3C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C8CB-DF68-4890-8749-33D9E89D2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E958-20A7-4931-AF5B-01B64BD20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267-9886-4F19-B424-9546CE151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racle.com/technology/pub/articles/mastering_dotnet_oracle/williams_sp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31102.aspx" TargetMode="External"/><Relationship Id="rId2" Type="http://schemas.openxmlformats.org/officeDocument/2006/relationships/hyperlink" Target="http://msdn2.microsoft.com/en-us/library/ms131102.aspx" TargetMode="External"/><Relationship Id="rId3" Type="http://schemas.openxmlformats.org/officeDocument/2006/relationships/hyperlink" Target="http://msdn2.microsoft.com/en-us/library/ms131102.aspx" TargetMode="External"/><Relationship Id="rId4" Type="http://schemas.openxmlformats.org/officeDocument/2006/relationships/hyperlink" Target="http://msdn.microsoft.com/sql/learning/prog/clr/default.aspx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R Integration im 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SQL Server 2005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2.09.2006 –  Sascha Leh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ascha.Lehmann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model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enbankop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cherheitsmodel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allem wacht die Code Access Secur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ben Machine- und User Policy nun auch noch Host Policy je Assembl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ies können in drei Modellen registr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r interne Berechnungen, Zugriff auf lokale Da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ate, kein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tatic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RNAL_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externe Ressourcen wie Dateien, Registry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unmanag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LR Integration muss explizit pro Server Instanz aktiv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p_configure 'clr enabled',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config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 Assemblies können vom Client aus im Server installiert werd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REATE ASSEMBLY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 für Assemblies mit Permission Set EXTERNAL_ACCESS bzw. UNSA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wner benötigt External / Unsafe Assembly Permi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ahoma"/>
              </a:rPr>
              <a:t>ALTER DATABASE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sz="1400" spc="-1" strike="noStrike">
                <a:solidFill>
                  <a:srgbClr val="000000"/>
                </a:solidFill>
                <a:latin typeface="Tahoma"/>
              </a:rPr>
              <a:t> SET TRUSTWORTHY ON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rrelation zwischen SQL Server Integration und den in .NET 2.0 hinzugekommenen Hosting AP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racl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und DB/2 bieten ebenfalls CL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QL Server 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Books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MSDN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heißt CLR Integra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erdefinierter Code kann nun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anaged Co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t werd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 umfasst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ored Procedur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gge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Datentyp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Funktionen (skalar und tabellenwerti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Aggregationsfunk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rte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teile von managed Code gegenüber T-SQL bzw. Extended Stored Procedure in native C(+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Programmierspr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Entwicklungsumgeb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weise deutlich besse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chere Laufzeitumgebung (Sand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keit Aggregationsfunktionen zu defini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1: Modulo2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den Rest einer Division durch 2 berech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turn (i % 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* from Numbers where dbo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ulo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d) =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 Demo 1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ype „Database/SQL Server Projec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d User-Defined Fun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# Syntax für UDF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einen kommaseparierten String in eine Tabelle zerleg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ring.Split(','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lect * From SplitCSString('A;B;C;D') lief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56720" y="3141720"/>
            <a:ext cx="819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le Valued Function (TVF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atik Datentyp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aAccessKind.R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ext-Conn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UDF bisher leider nicht innerhalb der FillRow-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erforman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einem 3 GHz Rechner wurden folgende Werte gemess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verhead pro Aufruf (Modulo2) &lt; 1 µ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litCSString gegen T-SQL Variante 200 ms statt 18 sec bei 120k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Event-Log des lokalen Rechners als Tabelle ausgeben. (Bsp. aus SQL Books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ascha Lehmann</cp:lastModifiedBy>
  <dcterms:modified xsi:type="dcterms:W3CDTF">2006-09-11T19:44:19Z</dcterms:modified>
  <cp:revision>238</cp:revision>
  <dc:subject/>
  <dc:title>Slide 1</dc:title>
</cp:coreProperties>
</file>