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644-B7AE-4989-8031-4B0B076E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1B4-743B-476A-BE74-A6DFBFF7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3DB-6C91-418B-88DB-188189AE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8DC-EBE1-46CA-97F7-758CA2C4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FAE2-EE48-440A-AA80-1ED6F9C6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EBC-73E5-487D-91B7-BC45DAF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7CAB-3414-450A-ACDA-163E21B3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308D-247D-4FB0-8F19-AF94D9B0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DF05-4B70-41C2-902C-20263008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002B-DE4F-46B6-B6A1-2C153156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E585-AECF-458C-8EA5-654D611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267-B81A-4DED-928C-90E41BD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D19-1082-475C-952C-F1264420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9D46-B1DF-4FFE-8069-FA52F64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3214-933D-49BE-AAFE-B21056B7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258B-F09A-429E-8179-917B7847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C794-EDE0-4A45-AF1A-A4386D48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640-423D-4485-BCDB-76BFB16A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C22-0416-4CF0-9466-2C07DDCC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5C4-A687-47A9-B4DC-92FC9C8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FA5-8DCF-4660-810D-31641D53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9AA-9696-4AC5-BA52-095A3CC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37E-060E-403C-BAD1-7B140B59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B43-501F-4FC0-9B35-FE6A24E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C6CC-A403-4DCE-A241-5221F68A6448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D34-2E1B-4976-8C4C-A110EC7D55E6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efan@lieser-online.de" TargetMode="External"/><Relationship Id="rId2" Type="http://schemas.openxmlformats.org/officeDocument/2006/relationships/hyperlink" Target="mailto:stefan@lieser-online.de" TargetMode="External"/><Relationship Id="rId3" Type="http://schemas.openxmlformats.org/officeDocument/2006/relationships/hyperlink" Target="mailto:stefan@lieser-online.de" TargetMode="External"/><Relationship Id="rId4" Type="http://schemas.openxmlformats.org/officeDocument/2006/relationships/hyperlink" Target="mailto:stefan@lieser-online.de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JetBrains ReSharper 2.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40458c"/>
                </a:solidFill>
                <a:latin typeface="Tahoma"/>
              </a:rPr>
              <a:t>Stefan Liese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mail: 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tefan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@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lieser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Web: www.lieser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resharper" descr=""/>
          <p:cNvPicPr/>
          <p:nvPr/>
        </p:nvPicPr>
        <p:blipFill>
          <a:blip r:embed="rId5"/>
          <a:stretch/>
        </p:blipFill>
        <p:spPr>
          <a:xfrm>
            <a:off x="990720" y="914400"/>
            <a:ext cx="2457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Unit Tes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 Run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inzelnen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estFixture Klas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s Projek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r 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werden am linken Rand markiert und können von dort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können im Debugger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JetBrains dotTrace Profiler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SP.NE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Alle Features funktionieren auch in „ASP.NET Dateien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MSBuild / NAn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rror highligh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Refact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vigation and Sear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ror Highlighting und Quick-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dvanced Coding Assis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Refactor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und Such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SP.NE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MSBuild / NAn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weiterbar durch Open API (Plugin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Error Highlighting und Quick-Fix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n-the-fly error chec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ad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using Anweisun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overri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t-En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tus Indic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in Fehlern und 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12 / Shift-F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fehlender </a:t>
            </a:r>
            <a:r>
              <a:rPr b="0" lang="de-DE" sz="2800" spc="-1" strike="noStrike">
                <a:solidFill>
                  <a:srgbClr val="40458c"/>
                </a:solidFill>
                <a:latin typeface="Courier New"/>
              </a:rPr>
              <a:t>using</a:t>
            </a: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 Direkt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Live-Search beim Tipp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Klammern für Methodenaufruf werden ergänz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ezeichner werden automatisch gebild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text Ac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e string.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nvert 'If' to condit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Documentation Look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ameter Inf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Bracket Mat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von Klammern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mplement interface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verride inherited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Delegating me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quals und GetHashCo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Live Templa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format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(F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ncapsulate 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Meth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outer sco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another ty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py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Pull members up, Push members dow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hange method signa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Introduce Variable/Parameter/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Interface/Super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class from method parame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ake method stat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static me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ethod to Property/Property to Method(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nvert abstract class to interf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Go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(Ctrl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ile (Ctrl-Shift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claration (Ctrl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declaration (Ctrl-Shift-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ase (Ctrl-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heritor (Ctrl-Alt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age (Ctrl-Alt-F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Highlight Usage (Ctrl-Shift-F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how Class Members (Ctrl-F1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Stack Trace Explorer (Ctrl-Shift-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ck Trace aus der Zwischenabl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Filepositionen über Links navigierb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deal zum Umordnen innerhalb einer Klas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terstützt #reg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Type Hierarch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fan Lieser</cp:lastModifiedBy>
  <dcterms:modified xsi:type="dcterms:W3CDTF">2006-09-12T13:50:34Z</dcterms:modified>
  <cp:revision>29</cp:revision>
  <dc:subject/>
  <dc:title>PowerPoint Presentation</dc:title>
</cp:coreProperties>
</file>