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B13D-AA58-4982-B768-498A93F2D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2520-B9F0-4FB0-8ACA-CFF01C0A3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ktion aufzeichnen, in Makro-IDE den Code anschau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, dass Code verloren geht, wenn neues Makro aufgezeichnet w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 könnte den Code woanders hin kopieren (entweder Sub umbenannt im gleichen Modul, oder – sauberer – in neues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Rechte Maustauste -&gt; Kontextmen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 haben aber hier schon ein etwas größeres Beispiel vorbere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Aufruf aus Makro-Explorer her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Makro mit CommandBar verbinden (kennen die meisten aus Off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Makros stehen als Commands zur Verfügung, aber ohne Einfluss auf die Eigenschaften, wie supported, en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DA33-4774-455A-8B23-DF2226ED8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1932-95B8-4BCC-A4ED-C62FFCFF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3517-A826-49BD-ADBB-1C31C5CE8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6794-5844-40E5-BDFE-51AA444ED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7C14-22A5-40D5-832A-30FE4F7FF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3938-31E8-4E1F-A8D8-6A527699A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1B3D-8E85-4CB7-9A96-438A3A936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9168-C1CE-4340-871B-2C278D494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E912-5E02-4914-852E-03EEEFF0F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5DDA-F68A-4975-8757-3F3364688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735D-7B27-4619-A809-C554C7BE9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CDB6-5968-443D-86D5-4E363B300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D3CB-961E-44A9-892F-0C500436B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EADE-A371-4FD8-B0BB-2D54191A9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B558-6963-4A04-80AA-B7B072989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2863-BDFC-44EF-8D16-DAF5F3B7C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C905-0AF8-41FE-9A4C-54A83F95F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8DFD-287C-4DCB-99A5-BFA16C26E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1.11.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ns Schaller, Roland Weig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Jens Schaller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Roland 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rundideen 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ufruf von Funktionen einer Anwendung über Code statt über Benutzereingab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möglicht Automatisierung von Abläuf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eicht erlernbares Objektmodell, möglichst analog zur sichtbaren Anwendungsstruktur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ffensichtlich: Ansammlung von Objek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VisualStudio_TypicalScreen"/>
          <p:cNvPicPr/>
          <p:nvPr/>
        </p:nvPicPr>
        <p:blipFill>
          <a:blip r:embed="rId1"/>
          <a:stretch/>
        </p:blipFill>
        <p:spPr>
          <a:xfrm>
            <a:off x="3059280" y="2274840"/>
            <a:ext cx="5905440" cy="4430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2005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59280" y="2492280"/>
            <a:ext cx="5905440" cy="505080"/>
          </a:xfrm>
          <a:prstGeom prst="rect">
            <a:avLst/>
          </a:prstGeom>
          <a:solidFill>
            <a:srgbClr val="ff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mmand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059280" y="3213000"/>
            <a:ext cx="3744720" cy="2160720"/>
          </a:xfrm>
          <a:prstGeom prst="rect">
            <a:avLst/>
          </a:prstGeom>
          <a:solidFill>
            <a:srgbClr val="cc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dito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877080" y="3068640"/>
            <a:ext cx="2016000" cy="230508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059280" y="5445000"/>
            <a:ext cx="5905440" cy="86364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684360" y="752400"/>
            <a:ext cx="7777080" cy="6061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684360" y="1268280"/>
            <a:ext cx="76176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292720" y="3789360"/>
            <a:ext cx="752400" cy="1825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5292720" y="4546440"/>
            <a:ext cx="77148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eht kompliziert aus? Entwarnu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 braucht nicht alles auf einmal zu ke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ige wenige, immer wieder auftauchende Konzept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er Prax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lingt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für mich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interessant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ann ich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jetzt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brauch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eles unabhängig voneinan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sicht auf der MSDN Web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msdn2.microsoft.com/en-us/library/za2b25t3(VS.80).a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TE (bzw. DTE2) ist das Root-Obje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runter: Documents-Coll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59864" t="50702" r="15432" b="36821"/>
          <a:stretch/>
        </p:blipFill>
        <p:spPr>
          <a:xfrm>
            <a:off x="1116000" y="3300480"/>
            <a:ext cx="58150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ere interessante Beispie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olutions und Projek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olu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prachelemente in Quellcod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FileCodeMode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Vari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Func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Tool-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mmand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TaskL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Output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den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Debugg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ces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gra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tackFram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uter Einstieg: Mit dem Debugger reinschau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Projekt laden und einfach "rumstochern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auch wenn man nicht alles auf Anhieb sieht, weil hier und da ein Cast notwendig 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m schnellsten und einfachsten geht es mit dem Debugger für VBA-Code in der "Macros-IDE"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astaturmakro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ange Geschichte, bereits in frühen Texteditor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gedrückten Tast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Funktionsaufruf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 Unterschied zwischen "Live-Aufzeichnung" und geschriebenem Programmcod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leichtert dadurch, dass es für nahezu jede Aktion in der Anwendung eine entsprechende Funktion gibt. Genauer: Ein </a:t>
            </a: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Comm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: Konzept eines "Dings", das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ein Stück Arbeit verrichte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xecut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aktuellen Zustand des System überhaupt Sinn mach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isibl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gerade im Moment ausführbar is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nable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 File.SaveSelectedI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mer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rum die Vorsicht, "Objekt" zu sag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il die Implementation nicht notwendigerweise über Objekte erfolgen brauch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blick: Visual Studio anpassen/erwei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 kommen Commands h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d... Macr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s selbst sind nicht sichtba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e erhalten ihr User Interface über Elemente von Command Bars (Menüeinträge, Icons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 Command kann mit beliebig vielen UI-Elemente verbunden sein (z.B. "File-Save"-Eintrag, Disk-Ic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knüpfung mit GUI-Eleme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826920" y="2349360"/>
            <a:ext cx="2159280" cy="2016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69840" y="2349360"/>
            <a:ext cx="19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v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trl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Exit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Alt-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292720" y="2421000"/>
            <a:ext cx="2879640" cy="1368360"/>
          </a:xfrm>
          <a:prstGeom prst="rect">
            <a:avLst/>
          </a:prstGeom>
          <a:gradFill rotWithShape="0">
            <a:gsLst>
              <a:gs pos="0">
                <a:srgbClr val="c5dff7"/>
              </a:gs>
              <a:gs pos="100000">
                <a:srgbClr val="6f94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292720" y="3789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5292720" y="2421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012000" y="2565360"/>
            <a:ext cx="1152360" cy="1079640"/>
          </a:xfrm>
          <a:prstGeom prst="rect">
            <a:avLst/>
          </a:prstGeom>
          <a:gradFill rotWithShape="0">
            <a:gsLst>
              <a:gs pos="0">
                <a:srgbClr val="6464b1"/>
              </a:gs>
              <a:gs pos="100000">
                <a:srgbClr val="333399"/>
              </a:gs>
            </a:gsLst>
            <a:lin ang="2700000"/>
          </a:gra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156360" y="2565360"/>
            <a:ext cx="86364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300720" y="3284640"/>
            <a:ext cx="576360" cy="3603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a3a3a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300720" y="285264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3276720" y="5734080"/>
            <a:ext cx="3671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a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ile.SaveSelected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843280" y="3357720"/>
            <a:ext cx="1873080" cy="230328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5076360" y="3716280"/>
            <a:ext cx="1366920" cy="194472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7020000" y="57340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Vis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Enab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nell und einfach zu 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rundgerüst kann über Makro-Rekorder aufgezeichne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 reichende Kontrolle über die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hlechte Perform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"echte" Erweiterung der IDE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ur VB-Syntax ("VBA.Net")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 vs 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-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öglichkeit zur Erstellung v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"echten" Programmierspra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aged Code (C#, VB.Net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iesem Vortrag: Managed 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nimales Add-in: Implementation von IDTExtensibility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AddInsUpd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BeginShutdow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Dis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StartupComple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Commands: IDTCommand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e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eryStatu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XML-Datei in speziellem Verzeich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teiendung .add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heorie: Diverse Verzeichnisse (s. Tools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Option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plus weitere, eig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raxis: Drei relevante Verzeichni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y Documents\VisualStudio 2005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\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&lt;user&gt;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\Application Data\MSEnvShared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23320" indent="-26028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&lt;user&gt;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= All Users oder &lt;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UserNam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3" descr="AddInFolders.png"/>
          <p:cNvPicPr/>
          <p:nvPr/>
        </p:nvPicPr>
        <p:blipFill>
          <a:blip r:embed="rId1"/>
          <a:stretch/>
        </p:blipFill>
        <p:spPr>
          <a:xfrm>
            <a:off x="1143000" y="3181320"/>
            <a:ext cx="3781440" cy="961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anpass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ersönliche Vorlieben für Farben, Schriftarten, Fensteranordnung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terschiedliche Anforderungen je nach Arbeitsschwerpun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enthält mehr Features, als sinnvoll gleichzeitig in der GUI dargestellt werden kö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addin-Datei enthält Informationen ü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nzeigena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urzbeschreibu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o liegt die Add-in Assembly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lche .NET Klasse implementiert IDTExtensibility2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.addin f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?xml version="1.0" encoding="UTF-16" standalone="no"?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Extensibility xmlns="http://schemas.microsoft.com/AutomationExtensibility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Name&gt;Microsoft Visual Studio&lt;/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Version&gt;8.0&lt;/Vers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riendlyName&gt;...&lt;/Friendly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Description&gt;...&lt;/Descrip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BoxDetails&gt;...&lt;/AboutBoxDetail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IconData&gt;...&lt;/AboutIconData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ssembly&gt;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yAddInAssembly.dll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ssembl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ullClassName&gt;MyAddIn.MainClass&lt;/FullClass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LoadBehavior&gt;0&lt;/LoadBehavio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Preload&gt;1&lt;/CommandPrelo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LineSafe&gt;1&lt;/CommandLineSaf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Extensibilit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 grundlegende Fensterarten in der ID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Editoren, Des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kzeuge, Anzeige von Informatione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: Nur Tool Wind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: 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osting des ToolWindows incl. Docking, etc. wird komplett von Visual Studio übernom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 Entwickler muss nur für Inhalt sor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halt: WinForms User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3" descr="AddInToolWindow.png"/>
          <p:cNvPicPr/>
          <p:nvPr/>
        </p:nvPicPr>
        <p:blipFill>
          <a:blip r:embed="rId1"/>
          <a:stretch/>
        </p:blipFill>
        <p:spPr>
          <a:xfrm>
            <a:off x="4643280" y="3857760"/>
            <a:ext cx="3981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.CreateToolWindow2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stellt ein ToolWindow und liefert ein Objekt vom Typ des UserControls zurüc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SetTabPicture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etzt das Icon, das im gedockten Zustand angezeig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Visible = tr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eigt das ToolWindow a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solute vs. relative Pfade in der .addin-Dat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absolut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npassung der .addin-Datei notwendig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tomatisiert nur mit MSI Installer-Kla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relativ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f den ersten Blick praktische Sache, aber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rsicht wenn Add-in-Assembly irgendwo unterhalb von Documents and Settings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 auf Netzwerkshar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robleme mit Securit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Windows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in-Pfade nur teilweise lokalisier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 ApplicationData englisch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in SP1 gefixt, d.h. komplett lokalisie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Beide Varianten berücksichtigen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Visual Studio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ehler in generiertem C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ultureInfo.Name statt TwoLetterI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ope für Tastenbelegung nicht einheitlich</a:t>
            </a:r>
            <a:br>
              <a:rPr sz="2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weblogs.asp.net/rweigelt/archive/2006/07/16/458634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on etwas komplizierter als 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ber: Add-ins ohne "professionelles" Setup relativ schnell geschrieb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utlich weiter reichende Kontrolle über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Dokumenttypen, Editoren, Design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rchitektur: MSDN unter dem Stichwort "Visual Studio Environment Model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erweite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notwendige Funktion ist vorherseh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denkbare Funktion kann implementi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als Plat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weiterer Programmiersprach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IronPyth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von komplexen Tool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Platform Builder für Windows CE 6.0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um Erzeugen von spezialisierten OS-Version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le Möglichkeiten von Makros und Add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sätz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Dokumen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eigener Programmiersprachen, Source Control Provider,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Seiten in Project Propert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he Sky is the Limit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ntwick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: Managed oder Unmanag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Managed über Visual Studio SD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wendung: PLK (Package Load Key) notwendig für Betrieb ohne installiertes Visual Studio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ibt es kostenlos über VSI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– Visual Studio SD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ownload kosten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istrierung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SIP (Visual Studio Industrial Partner) Affiliate Level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Zugriff auf CTP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hr viele Beispi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ference Samples sehr gut und ausführlich dokumentiert (mehr Doku als Cod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IronPythonIntegration" ist das größte und vollständigste Beispi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 muss für einige Samples installiert sein, weil der Pre-Processor verwende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ampleBrowser ist ein guter Einstie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r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2005 Wiz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Other Project Types -&gt; Extensi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Integration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asis Implementierung eines Pack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Language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tellung einer eigenen Sprache unter Verwendung des Babel Language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ntax Highligh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ror 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tement Comple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Debu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 Debugging-Zwecken wird ein neuer Registry-Hive er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HKLM\Software\Microsoft\VisualStudio\8.0Ex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m Debuggen in den Project-Properties die folgenden Einstellungen eintra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 line arguments: "/roofsuffix Exp"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tart external program : "Pfad zu devenv.exe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4" descr="VSPackageDebugging.png"/>
          <p:cNvPicPr/>
          <p:nvPr/>
        </p:nvPicPr>
        <p:blipFill>
          <a:blip r:embed="rId1"/>
          <a:stretch/>
        </p:blipFill>
        <p:spPr>
          <a:xfrm>
            <a:off x="1785960" y="4786200"/>
            <a:ext cx="5667480" cy="1847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stallation am Besten über VS Deployment Project (MSI-Install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SPackage wird mit Hilfe eines SDK-Tools (regpkg.exe) registr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iegt unter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…\Visual Studio 2005 SDK\2006.11\VisualStudioIntegration\Tools\B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pkg.exe darf nicht mit ausgelief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Parameter /regfile können die Registrierinformationen in ein Regstry File geschrieben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fache Automatisierung der IDE, sichtbarer SourceCode kein Problem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 in höherer Programmiersprache, Automation Model ausreichend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e Projekttypen, Editoren, Designer Debugger, Sprachen, etc.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VSPack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Extensibility Webca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Develope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icrosoft.com/downloads/details.aspx?FamilyId=7E0FDD66-698A-4E6A-B373-BD0642847AB7&amp;displaylang=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Ex's Web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blogs.msdn.com/dr._ex/default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SIP Members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affiliate.vsipmembers.co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elzahl von Möglichk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emen in diesem Vort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300720" y="1989000"/>
            <a:ext cx="2664000" cy="45356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564000" y="3213000"/>
            <a:ext cx="2663640" cy="11527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195640" y="5705640"/>
            <a:ext cx="2663640" cy="963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042920" y="2133720"/>
            <a:ext cx="2664000" cy="1152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keiten zur Erweit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Content Placeholder 3" descr=""/>
          <p:cNvPicPr/>
          <p:nvPr/>
        </p:nvPicPr>
        <p:blipFill>
          <a:blip r:embed="rId1"/>
          <a:stretch/>
        </p:blipFill>
        <p:spPr>
          <a:xfrm>
            <a:off x="0" y="1579680"/>
            <a:ext cx="6778800" cy="5175000"/>
          </a:xfrm>
          <a:prstGeom prst="rect">
            <a:avLst/>
          </a:prstGeom>
          <a:ln w="0">
            <a:noFill/>
          </a:ln>
        </p:spPr>
      </p:pic>
      <p:pic>
        <p:nvPicPr>
          <p:cNvPr id="130" name="Up Arrow 4" descr=""/>
          <p:cNvPicPr/>
          <p:nvPr/>
        </p:nvPicPr>
        <p:blipFill>
          <a:blip r:embed="rId2"/>
          <a:stretch/>
        </p:blipFill>
        <p:spPr>
          <a:xfrm>
            <a:off x="438120" y="2036880"/>
            <a:ext cx="695520" cy="4681440"/>
          </a:xfrm>
          <a:prstGeom prst="rect">
            <a:avLst/>
          </a:prstGeom>
          <a:ln w="0">
            <a:noFill/>
          </a:ln>
        </p:spPr>
      </p:pic>
      <p:pic>
        <p:nvPicPr>
          <p:cNvPr id="131" name="Up Arrow 5" descr=""/>
          <p:cNvPicPr/>
          <p:nvPr/>
        </p:nvPicPr>
        <p:blipFill>
          <a:blip r:embed="rId3"/>
          <a:stretch/>
        </p:blipFill>
        <p:spPr>
          <a:xfrm>
            <a:off x="7869240" y="2036880"/>
            <a:ext cx="695160" cy="4681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5364000" y="1628640"/>
            <a:ext cx="360360" cy="3745080"/>
          </a:xfrm>
          <a:custGeom>
            <a:avLst/>
            <a:gdLst>
              <a:gd name="textAreaLeft" fmla="*/ 0 w 360360"/>
              <a:gd name="textAreaRight" fmla="*/ 129960 w 36036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nn wir eine Anwendung erweitern wollen, brauchen wir auch Zugriff auf die Fea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 historischen Gründen: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n Office bekannt (Excel, Word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-basie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ür Visual Studio .NET 2002 wurde viel Code von Office übernommen (sichtbar: Menü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;Jens Schaller</dc:creator>
  <dc:description/>
  <dc:language>en-US</dc:language>
  <cp:lastModifiedBy>Roland Weigelt</cp:lastModifiedBy>
  <dcterms:modified xsi:type="dcterms:W3CDTF">2006-11-29T20:32:58Z</dcterms:modified>
  <cp:revision>497</cp:revision>
  <dc:subject/>
  <dc:title>Slide 1</dc:title>
</cp:coreProperties>
</file>