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D092-66FD-488D-91C2-4890E3DB1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3AC1-E855-4116-9495-698C21653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08CD-F9AB-45F8-9CE2-869DABF97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0220-ABFB-4E8B-9739-9C9CEC4BA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CC70-2F9E-4E27-9FAF-318C7ABFA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CC57-0FD1-4605-966D-F2AE4132F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07AE-433E-44CA-AB6B-7966D1545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CD05-A1EC-4A46-A468-58535595C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5C50-110B-4975-9E4B-1B4D0E1DC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6A98-9FBA-4EB2-A7A4-F44B028CF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6851-F9F5-4036-9461-7DAF86520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088B-21CE-4191-AF56-9C995338B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BB33-09EB-4B7D-8A32-5715B0590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9C07-8E8E-44D3-8AD6-C7D8490A4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168B-07B8-4672-B354-B700BE5B6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E7E1-38A3-439F-BEA4-02E951E388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F9A2-7233-4534-A525-3A26F91C5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921D-AF13-44CC-A77F-2CC512734C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C0780-4A83-4339-8CEA-B54185E59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C7A5-EF6A-4F1D-ABCF-1BF5C7B2F7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F381-F6B8-4237-9405-1276EC15B5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5C43C-8EE1-4998-9ADD-A85FD2632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EC8F-B01D-4CB0-8B9D-63C6D399BB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A73CE-17BD-44A4-B5BE-D8B6F6052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CB39-775C-4ABE-88A8-57D2D13E78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5C5F-F9BC-47EF-A46A-98514DB60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BD36-1190-450B-9464-9865A1AA9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erhard.Schlemm@comma-soft.com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crosoft.com/technet/scriptcenter/hubs/msh.mspx" TargetMode="External"/><Relationship Id="rId2" Type="http://schemas.openxmlformats.org/officeDocument/2006/relationships/hyperlink" Target="http://www.microsoft.com/downloads/details.aspx?FamilyID=B4720B00-9A66-430F-BD56-EC48BFCA154F&amp;displaylang=en" TargetMode="External"/><Relationship Id="rId3" Type="http://schemas.openxmlformats.org/officeDocument/2006/relationships/hyperlink" Target="http://msdn2.microsoft.com/en-us/library/bb246658.aspx" TargetMode="External"/><Relationship Id="rId4" Type="http://schemas.openxmlformats.org/officeDocument/2006/relationships/hyperlink" Target="http://thepowershellguy.com/blogs/posh/archive/2007/01/13/powershell-projects-on-codeplex.aspx" TargetMode="External"/><Relationship Id="rId5" Type="http://schemas.openxmlformats.org/officeDocument/2006/relationships/hyperlink" Target="http://www.codeplex.com/PSSharePoint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1642680"/>
            <a:ext cx="8713800" cy="216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69200"/>
                </a:solidFill>
                <a:latin typeface="Verdana"/>
              </a:rPr>
              <a:t>Scripting for the .NET generation</a:t>
            </a:r>
            <a:br>
              <a:rPr sz="2400"/>
            </a:br>
            <a:br>
              <a:rPr sz="3600"/>
            </a:br>
            <a:r>
              <a:rPr b="1" lang="de-DE" sz="4000" spc="-1" strike="noStrike">
                <a:solidFill>
                  <a:srgbClr val="f69200"/>
                </a:solidFill>
                <a:latin typeface="Verdana"/>
              </a:rPr>
              <a:t>Windows PowerShell</a:t>
            </a:r>
            <a:endParaRPr b="1" lang="en-US" sz="40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562640"/>
            <a:ext cx="6400800" cy="13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01.2007 –  Gerhard Schlem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5951520"/>
            <a:ext cx="500076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Gerhard.Schlemm@comma-sof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ritisch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un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ange Startup-Z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erformance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(keine Mess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ost-Kons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"Toleranz" bezüglich Parametern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ab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erfügbarkei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ndows XP, Windows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ehe Windows PowerShell Script Center-L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icht mit Windows V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Release-Zyklen wurden entkopp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rd nachgereich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rd demnächst mit  diversen Microsoft-Produkten ausgeliefe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xchange Server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ystem Center VM Manager, Operations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azi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Gut durchdacht, "moderne" Fortentwicklung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r Shell in einer objektorientierten W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ckt Anwendungsfä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ür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dministrato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ür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ntwickl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nd ist damit gut geeignet, auf Shell-Ebene Software-Produkte zu unterstü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Grafik 3" descr="Architektur.gif"/>
          <p:cNvPicPr/>
          <p:nvPr/>
        </p:nvPicPr>
        <p:blipFill>
          <a:blip r:embed="rId1"/>
          <a:stretch/>
        </p:blipFill>
        <p:spPr>
          <a:xfrm>
            <a:off x="928800" y="1576440"/>
            <a:ext cx="7500960" cy="461808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Übersich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ndows PowerShell Script Center</a:t>
            </a:r>
            <a:br>
              <a:rPr sz="2400"/>
            </a:br>
            <a:r>
              <a:rPr b="0" lang="de-DE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microsoft.com/technet/scriptcenter/hubs/msh.mspx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owerShell Documentation Pack </a:t>
            </a:r>
            <a:r>
              <a:rPr b="0" lang="de-DE" sz="16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microsoft.com/downloads/details.aspx?FamilyID=B4720B00-9A66-430F-BD56-EC48BFCA154F&amp;displaylang=e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MSDN</a:t>
            </a:r>
            <a:br>
              <a:rPr sz="2400"/>
            </a:br>
            <a:r>
              <a:rPr b="0" lang="de-DE" sz="16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msdn2.microsoft.com/en-us/library/bb246658.aspx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owerShell bei CodePlex</a:t>
            </a:r>
            <a:br>
              <a:rPr sz="2400"/>
            </a:b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http://thepowershellguy.com/blogs/posh/archive/2007/01/13/powershell-projects-on-codeplex.aspx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SharePoint 2003:</a:t>
            </a:r>
            <a:br>
              <a:rPr sz="1800"/>
            </a:br>
            <a:r>
              <a:rPr b="0" lang="de-DE" sz="18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http://www.codeplex.com/PSSharePoint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PowerShell Community Extensions: http://www.codeplex.com/PowerShellCX/Release/ProjectReleases.aspx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ndows SDK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ttp://www.microsoft.com/downloads/details.aspx?FamilyId=C2B1E300-F358-4523-B479-F53D234CDCCF&amp;displaylang=en 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Etliche Samples in Samples\SysMgmt\WindowsPowerSh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isual Studio Project Template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Tahoma"/>
              </a:rPr>
              <a:t>http://channel9.msdn.com/ShowPost.aspx?PostID=256835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logs</a:t>
            </a:r>
            <a:br>
              <a:rPr sz="24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http://blogs.msdn.com/powershell/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http://thepowershellguy.com/blogs/posh/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00240"/>
            <a:ext cx="822960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ragen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as ist PowerShell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levator Pitch: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"Scripting for the .NET Generation"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ieht zunächst wie eine normale Shell aus,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st aber konsequent auf .NET 2.0 basier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ripting findet stets auf echten .NET-Objekten statt - der Umgang mit diesen Objekten steht dem in kompilierten Code kaum n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llte etwas wie ein Text aussehen: Es ist ein Objekt vom Typ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System.String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auf dem alle Methoden und Eigenschaften zur Verfügung ste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Grafik 3" descr="picture_2_9.png"/>
          <p:cNvPicPr/>
          <p:nvPr/>
        </p:nvPicPr>
        <p:blipFill>
          <a:blip r:embed="rId1"/>
          <a:stretch/>
        </p:blipFill>
        <p:spPr>
          <a:xfrm>
            <a:off x="7151760" y="1488960"/>
            <a:ext cx="113652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I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ipelining von .NET Objek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hells aus der Unix-Welt nehmen Pipelining auf Basis von Texten vor, wodurch "externe" Tools wie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SED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1800" spc="-1" strike="noStrike">
                <a:solidFill>
                  <a:srgbClr val="000000"/>
                </a:solidFill>
                <a:latin typeface="Lucida Console"/>
              </a:rPr>
              <a:t>AW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tc. entstand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owerShell verbindet dieses Pipeline-Prinzip mit objektorientierter Entwickl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m Lieferumfang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mfangreicher Satz von Befehlen (Cmdlets), die Pipelining unterstüz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II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ch das ist notwendig: PowerShel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ächtig im Umf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rbeiten mit Funktionen und Variab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racing und Debugging mögl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ompakt in 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lativ schlecht erlern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ierfür gibt es Anwendungsfälle, als Entwickler möchte ich für mein Produkt (Administration, Verwendung) jedoch keine Skripte entwickeln, sondern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mpon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III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md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 .NET-Komponenten gegossene Befehle,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ie Pipelining unterstütz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onsistente Benen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men von Cmdlets folgen Verb-Noun Prin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men von häufigen Parametern standardisie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36560" indent="-264960">
              <a:lnSpc>
                <a:spcPct val="100000"/>
              </a:lnSpc>
              <a:spcBef>
                <a:spcPts val="4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Verbose , Debug, ErrorAction, ErrorVariable, OutVariable, OutBuffer, </a:t>
            </a: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WhatIf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, Confi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365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he 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et-help about_commonparame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hen auch in der PowerShell Language ber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icht erlernb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IV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ktion des Zugriffs auf hierarchische Datenspei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heitlicher Zugriff auf diese Daten üb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tgelieferte Cmdlets (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Get-ChildIt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ngebaute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77560">
              <a:lnSpc>
                <a:spcPct val="10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eisystem (File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77560">
              <a:lnSpc>
                <a:spcPct val="10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istry (Regis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77560">
              <a:lnSpc>
                <a:spcPct val="10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Lokale) Zertifikate (Ce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77560">
              <a:lnSpc>
                <a:spcPct val="10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werShell-interne Provider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as, Environment, Function,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V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usammenspiel Cmdlet-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mdlets können Provider-Abstraktion verwenden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m auf Daten zuzugrei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infache Erweiter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icklung eigener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mdlet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sehr einf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icklung eigener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vider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inf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 und natürlich auch durch Definition von Funktionen mit der PowerShel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VI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rchitektur: Runtime und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urch saubere Trennung von Runtime und Host ist PowerShell nicht nur eine Konsole, sondern kann innerhalb anderer Anwendungen eingesetz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npassbark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ias-Konzept für "gewohnte" Befehlssyn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 Ausgabeform (Tabelle, Liste, ...) können anzuzeigenden Eigenschaften ausgewählt und auch Werteformatierung eingestell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93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oreinstellung per Konfigurationsdat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rnfeatures (VII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icherheitskonz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ilfe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ilfe für Komponenten (Cmdlets und Provider) werden im MAML-Format ausgeliefert und/oder im Code annoti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ost-Kons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passbar (Titel, Prompt, 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"Toleranz" bezüglich Parametern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2160" indent="-264960">
              <a:lnSpc>
                <a:spcPct val="100000"/>
              </a:lnSpc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abExpansion für Provider-Pfade, Cmdlets (ab "-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Schlemm, Gerhard</cp:lastModifiedBy>
  <dcterms:modified xsi:type="dcterms:W3CDTF">2007-01-23T08:57:10Z</dcterms:modified>
  <cp:revision>589</cp:revision>
  <dc:subject/>
  <dc:title>Slide 1</dc:title>
</cp:coreProperties>
</file>