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923F-6766-4B04-AB98-3BD8435B300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7E70-A563-4ADD-A95C-2B6E1BFF1C2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F10F-1FBF-4912-9DD2-E4AFB46B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C55E-C451-4C59-BD85-5B6E2D0D63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B86D-D83B-4A85-8BFD-2529A71A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F652-F96E-4164-B137-0887850D80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565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B6CE-1BB1-4AB5-A367-AED3889696C4}" type="datetime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fld id="{4A85344D-D622-4D8B-AC12-79BB2111CFDC}" type="datetime10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08:3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55652"/>
          <p:cNvSpPr/>
          <p:nvPr/>
        </p:nvSpPr>
        <p:spPr>
          <a:xfrm>
            <a:off x="5583240" y="8683560"/>
            <a:ext cx="127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BF78-9C3B-4943-8D62-B44250CE1440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55653"/>
          <p:cNvSpPr/>
          <p:nvPr/>
        </p:nvSpPr>
        <p:spPr>
          <a:xfrm>
            <a:off x="0" y="8791560"/>
            <a:ext cx="5667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Franklin Gothic Book"/>
              </a:rPr>
              <a:t>© 2004 Microsoft Corporati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Franklin Gothic Book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565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Next Generation Business Solutions Platform Strategy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4424-5AF7-451A-9157-2F298219F4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4DE8-A554-496F-A4EB-85F24C5F1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E099-A8FE-4328-ABF1-9C58EC90C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xt: These are the four goals of WPF – next few slides drill down further on eac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I, graphics, documents and media into a single environment: providing a richer experience by unifying these together, allowing them to be integrated in a far deeper way than before, and reducing the number of APIs developers have to track by putting things into a single managed object-orientated 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 graphics processors woefully underused by modern applications. 128MB memory, rich 3D capabilities. Avalon takes advantage of these capabilities using a DirectX-based model. Vector- rather than bitmap-based, supports high-dpi, double buffe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and procedural programming supported for designers and developers to do what they wan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make it as easy as “clicking on a link” to deploy an Avalon application: either via a browser or via a standalone ap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85C1-7599-499D-BB59-C45132B2E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7B4A-DA7E-4E60-BEE2-B1BFDA77F3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1C4-2E56-4977-AA1F-0F9127E61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E1A3-4A68-47CC-9EB2-6756361076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CE68-262F-453D-B125-26F67267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61BA-46AC-4F8B-9D06-EF6E610B1C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7043-3CBD-4F54-83BA-2F84B847F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38BA-CFD0-4C08-AC0C-CF49814B8E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DF16-C655-4DD6-873D-DF7701B7B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827B-F951-4006-BE1C-93003B6AB7C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8E6-1FF7-4B02-ABCF-37CFFA90E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6CC5-63B2-4AB8-8978-3A963FCFAC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5583240" y="8685360"/>
            <a:ext cx="127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E5B1-CFE7-4ADD-B764-394F9A0AE9C1}" type="slidenum"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F2BB-23E7-4345-AD53-E422AB8038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65F2-F8E3-45ED-B398-3358E2C81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9FBC-5EBE-456C-98DD-7455181EA0D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8173-72A7-4436-B469-D16705DA9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E7EE-235D-498C-8319-9602165239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125-CD86-4344-B3EE-D0772017A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C445-9B45-432D-8949-5CA22C1064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7572-862C-4674-80B4-BCEC65406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3C7C-823F-4333-8A7D-D9853D2FE1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A5D7-FD06-42FA-9313-2D1A811C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2299-B73B-42AA-A8AC-E116F53B66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D041-AB49-43C7-BA67-A1558302E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7A8-D0E4-4BF4-89E6-536C4797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117-0B32-446E-9374-AF1DA702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0D5-6D90-4C6F-9F90-DA1398B6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1E7-91CA-4B12-A77B-71DB6FB6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4EA-DF70-4FDB-8CDB-7E6BADAE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F98-E7F3-4F83-A2D4-1A088154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C20-7838-4BA0-A0EA-F669476C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D93-129C-4C5C-B9E1-EF0E5731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2CD-E669-4F9A-9382-4260A62E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0DA-AA63-4FA3-920B-DF701D51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28E-EE87-4F3B-AD67-E20E4869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FD8-20CF-454F-B12C-B162224D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D3D8-1857-4F11-9554-D957A5BACE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3804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2320" y="1414440"/>
            <a:ext cx="83804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24760" indent="-350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95920" indent="-3690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529280" indent="-331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dev_sub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586800" indent="-225720">
              <a:spcBef>
                <a:spcPts val="7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2" marL="902880" indent="-180360">
              <a:spcBef>
                <a:spcPts val="799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3" marL="1263960" indent="-180360">
              <a:spcBef>
                <a:spcPts val="7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4" marL="1625040" indent="-180360">
              <a:spcBef>
                <a:spcPts val="799"/>
              </a:spcBef>
              <a:buClr>
                <a:srgbClr val="ffffff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Stefan.Lange@empira.de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Background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560" y="1642680"/>
            <a:ext cx="8713800" cy="21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Verdana"/>
              </a:rPr>
              <a:t>Windows Vista</a:t>
            </a: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Verdana"/>
              </a:rPr>
              <a:t>aus Entwicklersicht</a:t>
            </a:r>
            <a:endParaRPr b="1" lang="en-US" sz="40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27.02.2007 –  Stefan Lan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5951520"/>
            <a:ext cx="5000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ffffff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Stefan.Lange@empira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Side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Semibold"/>
              </a:rPr>
              <a:t>Microsoft .NET Framework 3.0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65" name="TextBox 27"/>
          <p:cNvSpPr/>
          <p:nvPr/>
        </p:nvSpPr>
        <p:spPr>
          <a:xfrm>
            <a:off x="2790720" y="1574640"/>
            <a:ext cx="387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Presentation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Next generation user experie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0"/>
          <p:cNvSpPr/>
          <p:nvPr/>
        </p:nvSpPr>
        <p:spPr>
          <a:xfrm>
            <a:off x="2803680" y="5958000"/>
            <a:ext cx="387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CardSpace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Digital identity manag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333"/>
          <p:cNvSpPr/>
          <p:nvPr/>
        </p:nvSpPr>
        <p:spPr>
          <a:xfrm>
            <a:off x="6140520" y="3463920"/>
            <a:ext cx="3003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Workflow         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Business process mode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168"/>
          <p:cNvSpPr/>
          <p:nvPr/>
        </p:nvSpPr>
        <p:spPr>
          <a:xfrm>
            <a:off x="0" y="3463920"/>
            <a:ext cx="3181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Communication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Service-oriented develop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Rectangle 25605" descr=""/>
          <p:cNvPicPr/>
          <p:nvPr/>
        </p:nvPicPr>
        <p:blipFill>
          <a:blip r:embed="rId1"/>
          <a:stretch/>
        </p:blipFill>
        <p:spPr>
          <a:xfrm>
            <a:off x="7523280" y="6086520"/>
            <a:ext cx="1544400" cy="69516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2560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852640" y="4670280"/>
            <a:ext cx="3794400" cy="142272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7"/>
          <p:cNvGrpSpPr/>
          <p:nvPr/>
        </p:nvGrpSpPr>
        <p:grpSpPr>
          <a:xfrm>
            <a:off x="3360600" y="2471760"/>
            <a:ext cx="2775240" cy="2771640"/>
            <a:chOff x="3360600" y="2471760"/>
            <a:chExt cx="2775240" cy="2771640"/>
          </a:xfrm>
        </p:grpSpPr>
        <p:pic>
          <p:nvPicPr>
            <p:cNvPr id="272" name="Rectangle 25608" descr=""/>
            <p:cNvPicPr/>
            <p:nvPr/>
          </p:nvPicPr>
          <p:blipFill>
            <a:blip r:embed="rId3"/>
            <a:stretch/>
          </p:blipFill>
          <p:spPr>
            <a:xfrm>
              <a:off x="3360600" y="247176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Rectangle 25609" descr=""/>
            <p:cNvPicPr/>
            <p:nvPr/>
          </p:nvPicPr>
          <p:blipFill>
            <a:blip r:embed="rId4"/>
            <a:stretch/>
          </p:blipFill>
          <p:spPr>
            <a:xfrm>
              <a:off x="4747680" y="247176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Rectangle 25610" descr=""/>
            <p:cNvPicPr/>
            <p:nvPr/>
          </p:nvPicPr>
          <p:blipFill>
            <a:blip r:embed="rId5"/>
            <a:stretch/>
          </p:blipFill>
          <p:spPr>
            <a:xfrm>
              <a:off x="3360600" y="385704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Rectangle 25611" descr=""/>
            <p:cNvPicPr/>
            <p:nvPr/>
          </p:nvPicPr>
          <p:blipFill>
            <a:blip r:embed="rId6"/>
            <a:stretch/>
          </p:blipFill>
          <p:spPr>
            <a:xfrm>
              <a:off x="4747680" y="385704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Rectangle 25612" descr=""/>
            <p:cNvPicPr/>
            <p:nvPr/>
          </p:nvPicPr>
          <p:blipFill>
            <a:blip r:embed="rId7"/>
            <a:stretch/>
          </p:blipFill>
          <p:spPr>
            <a:xfrm>
              <a:off x="3740760" y="2851560"/>
              <a:ext cx="2015640" cy="2012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egoe"/>
              </a:rPr>
              <a:t>WPF Visio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1414440"/>
            <a:ext cx="52563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Unified approach to UI, Documents, and Media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Integration as part of development and experience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Integrated, vector-based composition engine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Utilizing the power of the PC throughout the graphics stack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Declarative programming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Bringing designers directly into application development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Ease of deploymen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Allowing administrators to deploy and manage applications securely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5173560" y="925200"/>
            <a:ext cx="3866400" cy="4241520"/>
            <a:chOff x="5173560" y="925200"/>
            <a:chExt cx="3866400" cy="4241520"/>
          </a:xfrm>
        </p:grpSpPr>
        <p:pic>
          <p:nvPicPr>
            <p:cNvPr id="280" name="Picture 5" descr="secondpage"/>
            <p:cNvPicPr/>
            <p:nvPr/>
          </p:nvPicPr>
          <p:blipFill>
            <a:blip r:embed="rId1"/>
            <a:stretch/>
          </p:blipFill>
          <p:spPr>
            <a:xfrm rot="294600">
              <a:off x="5257440" y="2895480"/>
              <a:ext cx="3670200" cy="21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6" descr="thirdpage"/>
            <p:cNvPicPr/>
            <p:nvPr/>
          </p:nvPicPr>
          <p:blipFill>
            <a:blip r:embed="rId2"/>
            <a:stretch/>
          </p:blipFill>
          <p:spPr>
            <a:xfrm rot="21154800">
              <a:off x="5410080" y="1143000"/>
              <a:ext cx="3510000" cy="20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11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egoe"/>
              </a:rPr>
              <a:t>WPF capabilities</a:t>
            </a: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4" name="Rectangle 31"/>
          <p:cNvSpPr/>
          <p:nvPr/>
        </p:nvSpPr>
        <p:spPr>
          <a:xfrm>
            <a:off x="76320" y="6172200"/>
            <a:ext cx="899136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1722600" y="1752480"/>
            <a:ext cx="58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Windows Presentation Foundatio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9" descr="WinFXLogo"/>
          <p:cNvPicPr/>
          <p:nvPr/>
        </p:nvPicPr>
        <p:blipFill>
          <a:blip r:embed="rId1"/>
          <a:stretch/>
        </p:blipFill>
        <p:spPr>
          <a:xfrm>
            <a:off x="609480" y="4876920"/>
            <a:ext cx="1619280" cy="861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0" descr="WinFX"/>
          <p:cNvPicPr/>
          <p:nvPr/>
        </p:nvPicPr>
        <p:blipFill>
          <a:blip r:embed="rId2"/>
          <a:stretch/>
        </p:blipFill>
        <p:spPr>
          <a:xfrm>
            <a:off x="457200" y="2155680"/>
            <a:ext cx="84582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 Varian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PF Applik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auf de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lassische Windows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XBAP (XML Browser 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auf dem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gleichbar mit 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äuft nur auf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PF/E (Code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kein .NET auf dem Client notwe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Browserübergreif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379872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XBAP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3886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lle Unterstützung von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D Graf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leicher Quellcode wie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llbild im I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4495680" y="1676520"/>
            <a:ext cx="41911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äuft ähnlich wie Flash und in allen Brows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es C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AML und 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mnäch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anged Code (C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C#, VB .NET etc. programmier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4495680" y="685800"/>
            <a:ext cx="379908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4495680" y="685800"/>
            <a:ext cx="379908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/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86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Orca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ächste Version von Visual Studi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hält nächste Version von C#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ulti-Target Suppo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nsthafter Support für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e CTP noch ohne WPF Desig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press Editions bleiben er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aussetz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echnische Verbess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lass”, Common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ta Side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Presentation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O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pression 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8" descr="button-rgb-v4"/>
          <p:cNvPicPr/>
          <p:nvPr/>
        </p:nvPicPr>
        <p:blipFill>
          <a:blip r:embed="rId1"/>
          <a:stretch/>
        </p:blipFill>
        <p:spPr>
          <a:xfrm>
            <a:off x="7238880" y="9144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O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icrosoft Express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duktfamilie für Grafiker und Desig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Bl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Web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-Entwicklungsumgebung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s FrontPage hervorgegan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fügbar seit Dezember 200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9" descr="standards00_450x253"/>
          <p:cNvPicPr/>
          <p:nvPr/>
        </p:nvPicPr>
        <p:blipFill>
          <a:blip r:embed="rId1"/>
          <a:stretch/>
        </p:blipFill>
        <p:spPr>
          <a:xfrm>
            <a:off x="1600200" y="3200400"/>
            <a:ext cx="59436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Blend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YSIWYG-Editor für XAM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gleichbar mit Adobe Direc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Beta 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Picture 9" descr="EfficientCollaboration_450x253"/>
          <p:cNvPicPr/>
          <p:nvPr/>
        </p:nvPicPr>
        <p:blipFill>
          <a:blip r:embed="rId1"/>
          <a:stretch/>
        </p:blipFill>
        <p:spPr>
          <a:xfrm>
            <a:off x="1905120" y="3352680"/>
            <a:ext cx="54864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Desig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eint die Vorteile von Vektor- und Pixeltechnik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Expression des ehem. Software-herstellers Creature House (übernommen 2004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ann XAML und PDF produzier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Beta 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4" name="Picture 7" descr="InnoVectorDrawing_450x253"/>
          <p:cNvPicPr/>
          <p:nvPr/>
        </p:nvPicPr>
        <p:blipFill>
          <a:blip r:embed="rId1"/>
          <a:stretch/>
        </p:blipFill>
        <p:spPr>
          <a:xfrm>
            <a:off x="1600200" y="3849840"/>
            <a:ext cx="502920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Medi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oftware für Digital Asset Managemen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iView MediaPro (übernommen 2006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Noch keine CT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5" descr="EffortlessOrganization_450x253"/>
          <p:cNvPicPr/>
          <p:nvPr/>
        </p:nvPicPr>
        <p:blipFill>
          <a:blip r:embed="rId1"/>
          <a:stretch/>
        </p:blipFill>
        <p:spPr>
          <a:xfrm>
            <a:off x="1371600" y="3440160"/>
            <a:ext cx="54864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www.seewindowsvista.com/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blogs.msdn.com/davbosch/archive/2007/02/14/nice-list-of-demo-able-wpf-applications.asp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 / Diskuss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0440" y="15408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emibold"/>
              </a:rPr>
              <a:t>Windows Vista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Das größte je dagewesene Windows-Releas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187440" y="326232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263240" y="1960560"/>
            <a:ext cx="2582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Network Access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85640" y="3162240"/>
            <a:ext cx="2656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Network Location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87480" y="2854440"/>
            <a:ext cx="246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High Resolution/High D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529160" y="5931000"/>
            <a:ext cx="187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Side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630880" y="4119480"/>
            <a:ext cx="3380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Vista Display Driver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315040" y="3341520"/>
            <a:ext cx="1587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eople Near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033880" y="5411880"/>
            <a:ext cx="186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Def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050200" y="3602160"/>
            <a:ext cx="198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owe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7918920" y="3693960"/>
            <a:ext cx="107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Live Ic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7405560" y="1830240"/>
            <a:ext cx="171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Side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7469640" y="2595600"/>
            <a:ext cx="174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arental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678560" y="1890720"/>
            <a:ext cx="265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Feedback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4658760" y="4627440"/>
            <a:ext cx="253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Desktop Window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5181120" y="3097080"/>
            <a:ext cx="3266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gistry/File System 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275760" y="2529000"/>
            <a:ext cx="181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rotected Mode 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5230800" y="3627360"/>
            <a:ext cx="266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Service Hard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3504600" y="1752480"/>
            <a:ext cx="123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Sync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018240" y="1544760"/>
            <a:ext cx="60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A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200320" y="2550960"/>
            <a:ext cx="2116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resentation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327960" y="3994200"/>
            <a:ext cx="138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Preview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57000" y="1617840"/>
            <a:ext cx="23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ser Account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-70200" y="2220840"/>
            <a:ext cx="249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Ad-hoc Meeting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990480" y="3395520"/>
            <a:ext cx="134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Quick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392360" y="2511360"/>
            <a:ext cx="2484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Imaging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2972520" y="4386240"/>
            <a:ext cx="283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Resource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8259840" y="2971800"/>
            <a:ext cx="93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MC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2626920" y="2916360"/>
            <a:ext cx="1488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ancelable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3224880" y="6126120"/>
            <a:ext cx="3123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source Exhaustion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5045400" y="3916440"/>
            <a:ext cx="295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eer Name Resolu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7003440" y="2351160"/>
            <a:ext cx="140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Reading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105120" y="6515280"/>
            <a:ext cx="250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Disk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6"/>
          <p:cNvSpPr/>
          <p:nvPr/>
        </p:nvSpPr>
        <p:spPr>
          <a:xfrm>
            <a:off x="6047280" y="1620720"/>
            <a:ext cx="168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star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7"/>
          <p:cNvSpPr/>
          <p:nvPr/>
        </p:nvSpPr>
        <p:spPr>
          <a:xfrm>
            <a:off x="5798520" y="4238640"/>
            <a:ext cx="219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Transactional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8"/>
          <p:cNvSpPr/>
          <p:nvPr/>
        </p:nvSpPr>
        <p:spPr>
          <a:xfrm>
            <a:off x="1926720" y="3398760"/>
            <a:ext cx="134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ingle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2845800" y="4708440"/>
            <a:ext cx="200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emory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0"/>
          <p:cNvSpPr/>
          <p:nvPr/>
        </p:nvSpPr>
        <p:spPr>
          <a:xfrm>
            <a:off x="7051680" y="4681440"/>
            <a:ext cx="2149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tartup Repair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6426360" y="5821200"/>
            <a:ext cx="245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Transactional 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2"/>
          <p:cNvSpPr/>
          <p:nvPr/>
        </p:nvSpPr>
        <p:spPr>
          <a:xfrm>
            <a:off x="413280" y="5956200"/>
            <a:ext cx="2897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Eventing and Instr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3"/>
          <p:cNvSpPr/>
          <p:nvPr/>
        </p:nvSpPr>
        <p:spPr>
          <a:xfrm>
            <a:off x="4164480" y="1494000"/>
            <a:ext cx="170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S-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3792600" y="5583240"/>
            <a:ext cx="96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Info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5"/>
          <p:cNvSpPr/>
          <p:nvPr/>
        </p:nvSpPr>
        <p:spPr>
          <a:xfrm>
            <a:off x="2976480" y="3843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uperFe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6746760" y="5580000"/>
            <a:ext cx="1413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egoe UI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7"/>
          <p:cNvSpPr/>
          <p:nvPr/>
        </p:nvSpPr>
        <p:spPr>
          <a:xfrm>
            <a:off x="5936400" y="5165640"/>
            <a:ext cx="73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Flip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6825600" y="6081840"/>
            <a:ext cx="1469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New Explor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9"/>
          <p:cNvSpPr/>
          <p:nvPr/>
        </p:nvSpPr>
        <p:spPr>
          <a:xfrm>
            <a:off x="1036080" y="4500720"/>
            <a:ext cx="19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Taskbar Thumbn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0"/>
          <p:cNvSpPr/>
          <p:nvPr/>
        </p:nvSpPr>
        <p:spPr>
          <a:xfrm>
            <a:off x="8370000" y="3311640"/>
            <a:ext cx="57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1"/>
          <p:cNvSpPr/>
          <p:nvPr/>
        </p:nvSpPr>
        <p:spPr>
          <a:xfrm>
            <a:off x="3671280" y="5886360"/>
            <a:ext cx="695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XA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2"/>
          <p:cNvSpPr/>
          <p:nvPr/>
        </p:nvSpPr>
        <p:spPr>
          <a:xfrm>
            <a:off x="7190280" y="4437000"/>
            <a:ext cx="148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egoe Semibold"/>
              </a:rPr>
              <a:t>Search F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3"/>
          <p:cNvSpPr/>
          <p:nvPr/>
        </p:nvSpPr>
        <p:spPr>
          <a:xfrm>
            <a:off x="6709320" y="2119320"/>
            <a:ext cx="126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Ink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4"/>
          <p:cNvSpPr/>
          <p:nvPr/>
        </p:nvSpPr>
        <p:spPr>
          <a:xfrm>
            <a:off x="7893720" y="4071960"/>
            <a:ext cx="126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plit 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5"/>
          <p:cNvSpPr/>
          <p:nvPr/>
        </p:nvSpPr>
        <p:spPr>
          <a:xfrm>
            <a:off x="-108720" y="5492880"/>
            <a:ext cx="2724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andatory Integrity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6"/>
          <p:cNvSpPr/>
          <p:nvPr/>
        </p:nvSpPr>
        <p:spPr>
          <a:xfrm>
            <a:off x="6990120" y="6392880"/>
            <a:ext cx="205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I Privileg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7"/>
          <p:cNvSpPr/>
          <p:nvPr/>
        </p:nvSpPr>
        <p:spPr>
          <a:xfrm>
            <a:off x="2395440" y="2316240"/>
            <a:ext cx="150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ecure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3352320" y="5040360"/>
            <a:ext cx="262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Filtering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9"/>
          <p:cNvSpPr/>
          <p:nvPr/>
        </p:nvSpPr>
        <p:spPr>
          <a:xfrm>
            <a:off x="222480" y="4761000"/>
            <a:ext cx="2803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ser Mode Driver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0"/>
          <p:cNvSpPr/>
          <p:nvPr/>
        </p:nvSpPr>
        <p:spPr>
          <a:xfrm>
            <a:off x="1325160" y="5711760"/>
            <a:ext cx="230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New Open/Save Dia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1"/>
          <p:cNvSpPr/>
          <p:nvPr/>
        </p:nvSpPr>
        <p:spPr>
          <a:xfrm>
            <a:off x="-32040" y="3513240"/>
            <a:ext cx="213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hell Propert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2"/>
          <p:cNvSpPr/>
          <p:nvPr/>
        </p:nvSpPr>
        <p:spPr>
          <a:xfrm>
            <a:off x="365760" y="4264200"/>
            <a:ext cx="241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logon Re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3"/>
          <p:cNvSpPr/>
          <p:nvPr/>
        </p:nvSpPr>
        <p:spPr>
          <a:xfrm>
            <a:off x="4961160" y="2798640"/>
            <a:ext cx="3530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Communic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4"/>
          <p:cNvSpPr/>
          <p:nvPr/>
        </p:nvSpPr>
        <p:spPr>
          <a:xfrm>
            <a:off x="3618000" y="2168640"/>
            <a:ext cx="3260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Present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5"/>
          <p:cNvSpPr/>
          <p:nvPr/>
        </p:nvSpPr>
        <p:spPr>
          <a:xfrm>
            <a:off x="2222280" y="3898800"/>
            <a:ext cx="65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6"/>
          <p:cNvSpPr/>
          <p:nvPr/>
        </p:nvSpPr>
        <p:spPr>
          <a:xfrm>
            <a:off x="2556720" y="5308560"/>
            <a:ext cx="2646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Open Package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7"/>
          <p:cNvSpPr/>
          <p:nvPr/>
        </p:nvSpPr>
        <p:spPr>
          <a:xfrm>
            <a:off x="53640" y="6208560"/>
            <a:ext cx="2326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XML Paper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8"/>
          <p:cNvSpPr/>
          <p:nvPr/>
        </p:nvSpPr>
        <p:spPr>
          <a:xfrm>
            <a:off x="5758200" y="4919760"/>
            <a:ext cx="296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Workflow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9"/>
          <p:cNvSpPr/>
          <p:nvPr/>
        </p:nvSpPr>
        <p:spPr>
          <a:xfrm>
            <a:off x="403560" y="5211720"/>
            <a:ext cx="2096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Installer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0"/>
          <p:cNvSpPr/>
          <p:nvPr/>
        </p:nvSpPr>
        <p:spPr>
          <a:xfrm>
            <a:off x="217800" y="1905120"/>
            <a:ext cx="117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owerSh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1"/>
          <p:cNvSpPr/>
          <p:nvPr/>
        </p:nvSpPr>
        <p:spPr>
          <a:xfrm>
            <a:off x="7836480" y="5361120"/>
            <a:ext cx="132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RSS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2"/>
          <p:cNvSpPr/>
          <p:nvPr/>
        </p:nvSpPr>
        <p:spPr>
          <a:xfrm>
            <a:off x="1231200" y="4941720"/>
            <a:ext cx="223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Function Discovery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3"/>
          <p:cNvSpPr/>
          <p:nvPr/>
        </p:nvSpPr>
        <p:spPr>
          <a:xfrm>
            <a:off x="4772520" y="5668920"/>
            <a:ext cx="186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zard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4"/>
          <p:cNvSpPr/>
          <p:nvPr/>
        </p:nvSpPr>
        <p:spPr>
          <a:xfrm>
            <a:off x="-21240" y="3757680"/>
            <a:ext cx="231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rypto Nex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5"/>
          <p:cNvSpPr/>
          <p:nvPr/>
        </p:nvSpPr>
        <p:spPr>
          <a:xfrm>
            <a:off x="6905880" y="5145120"/>
            <a:ext cx="200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redential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Form 954370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2113200" cy="96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4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8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4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6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8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2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4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6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2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4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6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8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2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4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6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8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2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4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8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2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4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8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2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4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6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8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2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4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6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2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4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18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22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4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6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2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4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8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2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braucht der Entwickl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rvice Pack 1 mit Vista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chtig: MSDN Hilfe von Okto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6.0 SDK (DVD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hält die Hilfe zu WPF, WF, W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rcas Tools für 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vember 2006 CTP (kein weiteres C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ackage für W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ackage für 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ist bereits enthalten (nur einschal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Glas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ch keine .NET Kapselung für Vista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 [DllImport] selber mach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eatures nur in Vista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Klassen erst mit Visual Studio O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dows Vista User Interfac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ue Common Controls (comctl32.dll v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mmand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sk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ramework für Wi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taBridge” leider (noch) nicht brauch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eue Common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Side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„Gadg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ML und Jave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Windows Vista Desktop with Windows Sidebar and gadgets"/>
          <p:cNvPicPr/>
          <p:nvPr/>
        </p:nvPicPr>
        <p:blipFill>
          <a:blip r:embed="rId1"/>
          <a:stretch/>
        </p:blipFill>
        <p:spPr>
          <a:xfrm>
            <a:off x="1523880" y="2895480"/>
            <a:ext cx="58294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land Weigelt</cp:lastModifiedBy>
  <dcterms:modified xsi:type="dcterms:W3CDTF">2007-03-01T21:12:0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