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FA4B-CAD2-43D3-AC06-B8B793D71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3DC1-1AA4-4DF5-B820-0A84DA181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EBDE-C0C2-433D-B829-354E48E04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82F3-3A88-4FA6-A4C0-7A4AFC1CF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67C04-BCD0-4010-80CF-F8C7BF6D19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E293D-CE67-4C5C-B263-B21E1CE932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E39E4-0C95-435D-9615-E38C869E19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029FC-F064-40EF-89CE-AF3F74B77B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C8F8A-6397-49DB-9590-08BA534125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F1EB6-78B2-48E0-85F4-4385E411DD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A9310-2512-4188-8F22-0021B81269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AAB9E-99CA-426A-BA25-DD10D66B37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5AF8C-005C-4E18-AF8F-5589C7D24F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A3C1B-32BD-484A-9BE6-BCDF2884DE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BFB61-94EE-4672-8555-CDC9F64E72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71ACA-CC90-4BC3-B128-561F31B844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Text Box 19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3F6D-41CE-47A9-951A-42FE26310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5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1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randyrants.com/2007/02/vista_tip_eleva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shellrevealed.com/blogs/shellblog/archive/2006/10/16/Do-things-faster-with-Keyboard-Shortcuts.aspx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hanselman.com/blog/MoreOnVistaReparsePoints.aspx" TargetMode="External"/><Relationship Id="rId2" Type="http://schemas.openxmlformats.org/officeDocument/2006/relationships/hyperlink" Target="http://www.hanselman.com/blog/WindowsVistaJunctionsAndMovingMyDocumentsToAnotherDrive.aspx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msdn2.microsoft.com/en-us/library/aa965711.aspx" TargetMode="External"/><Relationship Id="rId2" Type="http://schemas.openxmlformats.org/officeDocument/2006/relationships/hyperlink" Target="http://blogs.msdn.com/cheller/archive/2006/12/05/advanced-query-syntax-what-where-why-and-how.aspx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Vista in der Praxis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27.02.2007 –  Jens Schall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0" y="5951520"/>
            <a:ext cx="3564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contact@jens-schaller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Web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http://jens-schaller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ta – Desktop Composit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69200"/>
                </a:solidFill>
                <a:latin typeface="Verdana"/>
              </a:rPr>
              <a:t>Demo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Dies und Das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Programme schnell mit Administrator Rechten start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rogramm über Startmenü such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trl+Shift+Enter startet Programm mit Administrator Recht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Erweiterter Task-Manage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Jetzt mit Services-Tab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1500120" y="2928960"/>
            <a:ext cx="61009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Control Panel - Sehenswert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ontrol Panel -&gt; System and Maintenance -&gt; Performance Information and Tool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5214960" y="3000240"/>
            <a:ext cx="255744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Pfad der aktuellen Datei kopier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m Windows Explor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Shift+Rechtsklick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auf Ordner oder Date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Copy as Path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wäh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Command Prompt Her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m Windows Explor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Shift+Rechtklick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auf einen Ordner (nur im rechten Fensterbereic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m Kontextmenü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Command Prompt her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wäh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Elevated Command Prompt Her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Nicht „ab Werk“, aber durch einfaches REG-File möglic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www.randyrants.com/2007/02/vista_tip_eleva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2"/>
          <a:stretch/>
        </p:blipFill>
        <p:spPr>
          <a:xfrm>
            <a:off x="4286160" y="3929040"/>
            <a:ext cx="38721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Snipping Tool – für Screenshot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Zum Erstellen von Screensho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peichern im gif, jpg, png, mht Format oder über die Zwischenabl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odi: Fullscreen, Fenster, Rechteckiger Ausschnitt, Frei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st in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Tablet PC Optional Components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enthalt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2428920" y="4500720"/>
            <a:ext cx="42861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indows Mobility Cente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Für Notebook Besitzer sehr interessa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ufruf mit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Win+X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1803240" y="3214800"/>
            <a:ext cx="548352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gend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inführu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ipps, Tipps, Tipp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Faz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ie wichtigsten Vista Shortcut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5072040"/>
            <a:ext cx="8229600" cy="15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usführliche Liste: </a:t>
            </a:r>
            <a:r>
              <a:rPr b="1" lang="de-DE" sz="1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shellrevealed.com/blogs/shellblog/archive/2006/10/16/Do-things-faster-with-Keyboard-Shortcuts.aspx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57200" y="1628640"/>
          <a:ext cx="8229600" cy="2941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trl+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tant Search box wähl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n+T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ip 3D star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trl+Shift+En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gramm im Startmenü mit administrativen Rechten star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n+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rtet Eintrag aus QuickLaunch Toolbar mit entsprechender Position.</a:t>
                      </a:r>
                      <a:br>
                        <a:rPr sz="1800"/>
                      </a:b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ispiel: Win+2 würde Outlook starten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n+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ndows Mobility Center öffn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4643280" y="3929040"/>
            <a:ext cx="1071720" cy="2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Benutzerordner in Vista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Benutzerordner in Vist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Tahoma"/>
              </a:rPr>
              <a:t>Sämtliche Benutzerordner liegen unter </a:t>
            </a:r>
            <a:r>
              <a:rPr b="1" i="1" lang="de-DE" sz="2200" spc="-1" strike="noStrike">
                <a:solidFill>
                  <a:srgbClr val="000000"/>
                </a:solidFill>
                <a:latin typeface="Tahoma"/>
              </a:rPr>
              <a:t>c:\users\&lt;Benutzername&gt;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Tahoma"/>
              </a:rPr>
              <a:t>Im Explorer wird unterhalb vom </a:t>
            </a:r>
            <a:r>
              <a:rPr b="1" i="1" lang="de-DE" sz="2200" spc="-1" strike="noStrike">
                <a:solidFill>
                  <a:srgbClr val="000000"/>
                </a:solidFill>
                <a:latin typeface="Tahoma"/>
              </a:rPr>
              <a:t>Desktop  </a:t>
            </a:r>
            <a:r>
              <a:rPr b="1" lang="de-DE" sz="2200" spc="-1" strike="noStrike">
                <a:solidFill>
                  <a:srgbClr val="000000"/>
                </a:solidFill>
                <a:latin typeface="Tahoma"/>
              </a:rPr>
              <a:t>Ordner ein Ordner </a:t>
            </a:r>
            <a:r>
              <a:rPr b="1" i="1" lang="de-DE" sz="2200" spc="-1" strike="noStrike">
                <a:solidFill>
                  <a:srgbClr val="000000"/>
                </a:solidFill>
                <a:latin typeface="Tahoma"/>
              </a:rPr>
              <a:t>Benutzername </a:t>
            </a:r>
            <a:r>
              <a:rPr b="1" lang="de-DE" sz="2200" spc="-1" strike="noStrike">
                <a:solidFill>
                  <a:srgbClr val="000000"/>
                </a:solidFill>
                <a:latin typeface="Tahoma"/>
              </a:rPr>
              <a:t>angezeigt. Hier befinden sich Links auf sämtliche Benutzerordn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Tahoma"/>
              </a:rPr>
              <a:t>Alle Benutzerorder liegen in englischer Sprache vo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Explorer deutscht Ordnernamen über </a:t>
            </a:r>
            <a:r>
              <a:rPr b="0" i="1" lang="de-DE" sz="2200" spc="-1" strike="noStrike">
                <a:solidFill>
                  <a:srgbClr val="000000"/>
                </a:solidFill>
                <a:latin typeface="Tahoma"/>
              </a:rPr>
              <a:t>Desktop.ini</a:t>
            </a: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  ei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lnSpc>
                <a:spcPct val="90000"/>
              </a:lnSpc>
              <a:spcBef>
                <a:spcPts val="476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ahoma"/>
              </a:rPr>
              <a:t>Das funktioniert auch mit Dateien! -&gt; Ein Angriffspunkt für Vire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Tahoma"/>
              </a:rPr>
              <a:t>Es wird massiv mit Symbolic Links gearbeite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=&gt; Verschieben über Registry Hacks gefährlich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lnSpc>
                <a:spcPct val="90000"/>
              </a:lnSpc>
              <a:spcBef>
                <a:spcPts val="326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Mehr Infos: </a:t>
            </a:r>
            <a:br>
              <a:rPr sz="2200"/>
            </a:br>
            <a:r>
              <a:rPr b="0" lang="de-DE" sz="13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www.hanselman.com/blog/MoreOnVistaReparsePoints.aspx</a:t>
            </a:r>
            <a:br>
              <a:rPr sz="1300"/>
            </a:br>
            <a:r>
              <a:rPr b="0" lang="de-DE" sz="13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www.hanselman.com/blog/WindowsVistaJunctionsAndMovingMyDocumentsToAnotherDrive.aspx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Benutzerordner in Vist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Um Benutzerordner zu verschieben sind keine extra Tools mehr nöti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in Ordner verschiebt man wie folgt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Rechtsklick auf Benutzerordner -&gt;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Location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Tab wäh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Move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klicken und Zielort wäh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Benutzerordner in Vist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o sind die StartMenu, SendTo, etc. Ordner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:\Users\&lt;username&gt;\AppData\Roaming\Microsoft\Wind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ichtig: Um den AppData Ordner zu sehen muss die Option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how hidden files and folders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im Explorer gewählt wer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Windows Explor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Alt+T (Tools Menü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Folder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View Ta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chnellerer Weg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Shell:sendto im Schnellsuchfeld eingeben (Vista Butt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Dies und Das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eil 2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ein UAC Elevation Prompt für Standard-User (1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ls Standard-User kann es lästig sein, für Programme die Administrator Rechte benötigen ständig das UAC Elevation Prompt zu seh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ieses Verhalten kann jedoch abgeschaltet werden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er Bildschirm wird nicht mehr abgedunke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s Elevation Prompt erscheint nicht meh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ein UAC Elevation Prompt für Standard-User (2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Folgende Schritte sind notwendig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Local Security Policy (secpol.msc) öffn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Unter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Security Settings -&gt; Local Policies -&gt; Security Option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den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Eintra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ser Account Control: Behavior of the elevation prompt for standard user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öffn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mpt for credenti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u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utomatically deny elevation reques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mstel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Backup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ackup and Restore Cent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ntweder Datei basiert oder Erstellung eines kompletten 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mage wird als .vhd Datei gespeichert und kann unter VirtualPC gemountet wer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ooten des Image unter VirtualPC funktioniert nicht, aber es gibt bereits Leute die daran „arbeiten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urücklesen kann entweder aus dem laufenden System erfolgen oder über die Vista Install-DVD (Recovery Modu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creencast dazu: </a:t>
            </a: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http://channel9.msdn.com/ShowPost.aspx?PostID=229767#22976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Profile für Spracherkennung auf anderen PC übertrag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Tahoma"/>
              </a:rPr>
              <a:t>Start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 klick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Tahoma"/>
              </a:rPr>
              <a:t>Easy Transfer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 eingeb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Tahoma"/>
              </a:rPr>
              <a:t>Windows Easy Transfer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 start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 wähl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Tahoma"/>
              </a:rPr>
              <a:t>Start a new transfer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wähl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Tahoma"/>
              </a:rPr>
              <a:t>My Old Computer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 wähl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Art des Transfers auswähl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Auf der Seite „</a:t>
            </a:r>
            <a:r>
              <a:rPr b="1" i="1" lang="de-DE" sz="2000" spc="-1" strike="noStrike">
                <a:solidFill>
                  <a:srgbClr val="000000"/>
                </a:solidFill>
                <a:latin typeface="Tahoma"/>
              </a:rPr>
              <a:t>What do you want to transfer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“ </a:t>
            </a:r>
            <a:r>
              <a:rPr b="1" i="1" lang="de-DE" sz="2000" spc="-1" strike="noStrike">
                <a:solidFill>
                  <a:srgbClr val="000000"/>
                </a:solidFill>
                <a:latin typeface="Tahoma"/>
              </a:rPr>
              <a:t>Advanced Options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wähl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Alle Einträge abwähl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Den Knoten mit dem eigenen Benutzernamen aufklapp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Den </a:t>
            </a:r>
            <a:r>
              <a:rPr b="1" i="1" lang="de-DE" sz="2000" spc="-1" strike="noStrike">
                <a:solidFill>
                  <a:srgbClr val="000000"/>
                </a:solidFill>
                <a:latin typeface="Tahoma"/>
              </a:rPr>
              <a:t>Windows Settings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 Knoten aufklapp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Den </a:t>
            </a:r>
            <a:r>
              <a:rPr b="1" i="1" lang="de-DE" sz="2000" spc="-1" strike="noStrike">
                <a:solidFill>
                  <a:srgbClr val="000000"/>
                </a:solidFill>
                <a:latin typeface="Tahoma"/>
              </a:rPr>
              <a:t>Sound and Speech Recognition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 Knoten aufklapp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Den Knoten </a:t>
            </a:r>
            <a:r>
              <a:rPr b="1" i="1" lang="de-DE" sz="2000" spc="-1" strike="noStrike">
                <a:solidFill>
                  <a:srgbClr val="000000"/>
                </a:solidFill>
                <a:latin typeface="Tahoma"/>
              </a:rPr>
              <a:t>Speech Recognition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 auswähl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Next &amp; Ferti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1440" y="466200"/>
            <a:ext cx="8229600" cy="103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Windows Vist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187440" y="3262320"/>
            <a:ext cx="7596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308240" y="1960560"/>
            <a:ext cx="24922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etwork Access Pro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85640" y="3162240"/>
            <a:ext cx="265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Network Location Aware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46880" y="2854440"/>
            <a:ext cx="23414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High Resolution/High D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4544280" y="5931000"/>
            <a:ext cx="18460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Windows Sidesh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2692440" y="4119480"/>
            <a:ext cx="32572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Windows Vista Display Driver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352480" y="3341520"/>
            <a:ext cx="15123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People Near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5073480" y="5411880"/>
            <a:ext cx="17866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indows Defe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2114280" y="3602160"/>
            <a:ext cx="18568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Power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7926120" y="3693960"/>
            <a:ext cx="10566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Live Ic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7419960" y="1830240"/>
            <a:ext cx="16891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Windows Side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7507800" y="2595600"/>
            <a:ext cx="16711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arental Contr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4695480" y="1890720"/>
            <a:ext cx="26204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indows Feedback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4725720" y="4627440"/>
            <a:ext cx="23994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Desktop Window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5258160" y="3097080"/>
            <a:ext cx="31125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egistry/File System Virtu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313200" y="2529000"/>
            <a:ext cx="17395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tected Mode 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9"/>
          <p:cNvSpPr/>
          <p:nvPr/>
        </p:nvSpPr>
        <p:spPr>
          <a:xfrm>
            <a:off x="5274000" y="3627360"/>
            <a:ext cx="25808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indows Service Hard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3512160" y="1752480"/>
            <a:ext cx="12243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Sync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1"/>
          <p:cNvSpPr/>
          <p:nvPr/>
        </p:nvSpPr>
        <p:spPr>
          <a:xfrm>
            <a:off x="3025080" y="1544760"/>
            <a:ext cx="5904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A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2250000" y="2550960"/>
            <a:ext cx="2016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Presentation Sett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3"/>
          <p:cNvSpPr/>
          <p:nvPr/>
        </p:nvSpPr>
        <p:spPr>
          <a:xfrm>
            <a:off x="352440" y="3994200"/>
            <a:ext cx="13356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Preview P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4"/>
          <p:cNvSpPr/>
          <p:nvPr/>
        </p:nvSpPr>
        <p:spPr>
          <a:xfrm>
            <a:off x="694800" y="1617840"/>
            <a:ext cx="2273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ser Account Pro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5"/>
          <p:cNvSpPr/>
          <p:nvPr/>
        </p:nvSpPr>
        <p:spPr>
          <a:xfrm>
            <a:off x="-5760" y="2220840"/>
            <a:ext cx="23706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Ad-hoc Meeting 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6"/>
          <p:cNvSpPr/>
          <p:nvPr/>
        </p:nvSpPr>
        <p:spPr>
          <a:xfrm>
            <a:off x="7002000" y="3395520"/>
            <a:ext cx="13251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Quick 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7"/>
          <p:cNvSpPr/>
          <p:nvPr/>
        </p:nvSpPr>
        <p:spPr>
          <a:xfrm>
            <a:off x="4458600" y="2511360"/>
            <a:ext cx="23522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indows Imaging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9"/>
          <p:cNvSpPr/>
          <p:nvPr/>
        </p:nvSpPr>
        <p:spPr>
          <a:xfrm>
            <a:off x="3011400" y="4386240"/>
            <a:ext cx="27576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indows Resource Pro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0"/>
          <p:cNvSpPr/>
          <p:nvPr/>
        </p:nvSpPr>
        <p:spPr>
          <a:xfrm>
            <a:off x="8273520" y="2971800"/>
            <a:ext cx="9075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MC 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1"/>
          <p:cNvSpPr/>
          <p:nvPr/>
        </p:nvSpPr>
        <p:spPr>
          <a:xfrm>
            <a:off x="2663640" y="2916360"/>
            <a:ext cx="14148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ancelable I/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2"/>
          <p:cNvSpPr/>
          <p:nvPr/>
        </p:nvSpPr>
        <p:spPr>
          <a:xfrm>
            <a:off x="3254400" y="6126120"/>
            <a:ext cx="30639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esource Exhaustion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3"/>
          <p:cNvSpPr/>
          <p:nvPr/>
        </p:nvSpPr>
        <p:spPr>
          <a:xfrm>
            <a:off x="5098680" y="3916440"/>
            <a:ext cx="2849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Peer Name Resolution Protoc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4"/>
          <p:cNvSpPr/>
          <p:nvPr/>
        </p:nvSpPr>
        <p:spPr>
          <a:xfrm>
            <a:off x="7023240" y="2351160"/>
            <a:ext cx="13615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Reading P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5"/>
          <p:cNvSpPr/>
          <p:nvPr/>
        </p:nvSpPr>
        <p:spPr>
          <a:xfrm>
            <a:off x="133200" y="6515280"/>
            <a:ext cx="24512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indows Disk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6"/>
          <p:cNvSpPr/>
          <p:nvPr/>
        </p:nvSpPr>
        <p:spPr>
          <a:xfrm>
            <a:off x="6099840" y="1620720"/>
            <a:ext cx="15811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estart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7"/>
          <p:cNvSpPr/>
          <p:nvPr/>
        </p:nvSpPr>
        <p:spPr>
          <a:xfrm>
            <a:off x="5840280" y="4238640"/>
            <a:ext cx="2106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ransactional Regi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8"/>
          <p:cNvSpPr/>
          <p:nvPr/>
        </p:nvSpPr>
        <p:spPr>
          <a:xfrm>
            <a:off x="1948680" y="3398760"/>
            <a:ext cx="13053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ingle b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9"/>
          <p:cNvSpPr/>
          <p:nvPr/>
        </p:nvSpPr>
        <p:spPr>
          <a:xfrm>
            <a:off x="2886120" y="4708440"/>
            <a:ext cx="19270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mory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7102800" y="4681440"/>
            <a:ext cx="20473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tartup Repair Toolk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1"/>
          <p:cNvSpPr/>
          <p:nvPr/>
        </p:nvSpPr>
        <p:spPr>
          <a:xfrm>
            <a:off x="6461280" y="5821200"/>
            <a:ext cx="2385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ransactional Fil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2"/>
          <p:cNvSpPr/>
          <p:nvPr/>
        </p:nvSpPr>
        <p:spPr>
          <a:xfrm>
            <a:off x="513000" y="5956200"/>
            <a:ext cx="26982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venting and Instru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4209480" y="1494000"/>
            <a:ext cx="16174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S-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4"/>
          <p:cNvSpPr/>
          <p:nvPr/>
        </p:nvSpPr>
        <p:spPr>
          <a:xfrm>
            <a:off x="3817800" y="5583240"/>
            <a:ext cx="9165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InfoC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5"/>
          <p:cNvSpPr/>
          <p:nvPr/>
        </p:nvSpPr>
        <p:spPr>
          <a:xfrm>
            <a:off x="2988720" y="3843360"/>
            <a:ext cx="11635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uperFe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6"/>
          <p:cNvSpPr/>
          <p:nvPr/>
        </p:nvSpPr>
        <p:spPr>
          <a:xfrm>
            <a:off x="6762600" y="5580000"/>
            <a:ext cx="13813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Segoe UI Fo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7"/>
          <p:cNvSpPr/>
          <p:nvPr/>
        </p:nvSpPr>
        <p:spPr>
          <a:xfrm>
            <a:off x="5941800" y="5165640"/>
            <a:ext cx="7290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Flip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8"/>
          <p:cNvSpPr/>
          <p:nvPr/>
        </p:nvSpPr>
        <p:spPr>
          <a:xfrm>
            <a:off x="6848280" y="6081840"/>
            <a:ext cx="14241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New Explor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9"/>
          <p:cNvSpPr/>
          <p:nvPr/>
        </p:nvSpPr>
        <p:spPr>
          <a:xfrm>
            <a:off x="1074960" y="4500720"/>
            <a:ext cx="19162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Taskbar Thumbna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0"/>
          <p:cNvSpPr/>
          <p:nvPr/>
        </p:nvSpPr>
        <p:spPr>
          <a:xfrm>
            <a:off x="8379000" y="3311640"/>
            <a:ext cx="5522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IPv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1"/>
          <p:cNvSpPr/>
          <p:nvPr/>
        </p:nvSpPr>
        <p:spPr>
          <a:xfrm>
            <a:off x="3674880" y="5886360"/>
            <a:ext cx="6879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XA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2"/>
          <p:cNvSpPr/>
          <p:nvPr/>
        </p:nvSpPr>
        <p:spPr>
          <a:xfrm>
            <a:off x="7194240" y="4437000"/>
            <a:ext cx="14727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be0e3"/>
                </a:solidFill>
                <a:latin typeface="Arial"/>
              </a:rPr>
              <a:t>Search Fol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3"/>
          <p:cNvSpPr/>
          <p:nvPr/>
        </p:nvSpPr>
        <p:spPr>
          <a:xfrm>
            <a:off x="6730200" y="2119320"/>
            <a:ext cx="12258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Ink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4"/>
          <p:cNvSpPr/>
          <p:nvPr/>
        </p:nvSpPr>
        <p:spPr>
          <a:xfrm>
            <a:off x="7903800" y="4071960"/>
            <a:ext cx="12441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plit Tok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5"/>
          <p:cNvSpPr/>
          <p:nvPr/>
        </p:nvSpPr>
        <p:spPr>
          <a:xfrm>
            <a:off x="-7200" y="5492880"/>
            <a:ext cx="25214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andatory Integrity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6"/>
          <p:cNvSpPr/>
          <p:nvPr/>
        </p:nvSpPr>
        <p:spPr>
          <a:xfrm>
            <a:off x="7045920" y="6629400"/>
            <a:ext cx="19422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I Privilege Iso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7"/>
          <p:cNvSpPr/>
          <p:nvPr/>
        </p:nvSpPr>
        <p:spPr>
          <a:xfrm>
            <a:off x="2419200" y="2316240"/>
            <a:ext cx="14529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ecure Start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8"/>
          <p:cNvSpPr/>
          <p:nvPr/>
        </p:nvSpPr>
        <p:spPr>
          <a:xfrm>
            <a:off x="3418560" y="5040360"/>
            <a:ext cx="24940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indows Filtering Plat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9"/>
          <p:cNvSpPr/>
          <p:nvPr/>
        </p:nvSpPr>
        <p:spPr>
          <a:xfrm>
            <a:off x="292680" y="4761000"/>
            <a:ext cx="26629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ser Mode Driver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0"/>
          <p:cNvSpPr/>
          <p:nvPr/>
        </p:nvSpPr>
        <p:spPr>
          <a:xfrm>
            <a:off x="1369080" y="5711760"/>
            <a:ext cx="22150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New Open/Save Dialo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-5400" y="3513240"/>
            <a:ext cx="20793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Shell Property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2"/>
          <p:cNvSpPr/>
          <p:nvPr/>
        </p:nvSpPr>
        <p:spPr>
          <a:xfrm>
            <a:off x="424440" y="4264200"/>
            <a:ext cx="22928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inlogon Re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3"/>
          <p:cNvSpPr/>
          <p:nvPr/>
        </p:nvSpPr>
        <p:spPr>
          <a:xfrm>
            <a:off x="5038200" y="2798640"/>
            <a:ext cx="33764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Windows Communication Found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4"/>
          <p:cNvSpPr/>
          <p:nvPr/>
        </p:nvSpPr>
        <p:spPr>
          <a:xfrm>
            <a:off x="3692880" y="2168640"/>
            <a:ext cx="31111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Windows Presentation Found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5"/>
          <p:cNvSpPr/>
          <p:nvPr/>
        </p:nvSpPr>
        <p:spPr>
          <a:xfrm>
            <a:off x="2214000" y="3898800"/>
            <a:ext cx="671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6"/>
          <p:cNvSpPr/>
          <p:nvPr/>
        </p:nvSpPr>
        <p:spPr>
          <a:xfrm>
            <a:off x="2594160" y="5308560"/>
            <a:ext cx="25714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Open Package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7"/>
          <p:cNvSpPr/>
          <p:nvPr/>
        </p:nvSpPr>
        <p:spPr>
          <a:xfrm>
            <a:off x="84240" y="6208560"/>
            <a:ext cx="22654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XML Paper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8"/>
          <p:cNvSpPr/>
          <p:nvPr/>
        </p:nvSpPr>
        <p:spPr>
          <a:xfrm>
            <a:off x="5824440" y="4919760"/>
            <a:ext cx="28339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Windows Workflow Found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9"/>
          <p:cNvSpPr/>
          <p:nvPr/>
        </p:nvSpPr>
        <p:spPr>
          <a:xfrm>
            <a:off x="451800" y="5211720"/>
            <a:ext cx="20001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indows Installer 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0"/>
          <p:cNvSpPr/>
          <p:nvPr/>
        </p:nvSpPr>
        <p:spPr>
          <a:xfrm>
            <a:off x="329040" y="1908000"/>
            <a:ext cx="756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on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1"/>
          <p:cNvSpPr/>
          <p:nvPr/>
        </p:nvSpPr>
        <p:spPr>
          <a:xfrm>
            <a:off x="7838640" y="5361120"/>
            <a:ext cx="13251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RSS Plat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2"/>
          <p:cNvSpPr/>
          <p:nvPr/>
        </p:nvSpPr>
        <p:spPr>
          <a:xfrm>
            <a:off x="1254960" y="4941720"/>
            <a:ext cx="21844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Function Discovery A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3"/>
          <p:cNvSpPr/>
          <p:nvPr/>
        </p:nvSpPr>
        <p:spPr>
          <a:xfrm>
            <a:off x="4820400" y="5668920"/>
            <a:ext cx="17715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Wizard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4"/>
          <p:cNvSpPr/>
          <p:nvPr/>
        </p:nvSpPr>
        <p:spPr>
          <a:xfrm>
            <a:off x="42120" y="3757680"/>
            <a:ext cx="21844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rypto Next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5"/>
          <p:cNvSpPr/>
          <p:nvPr/>
        </p:nvSpPr>
        <p:spPr>
          <a:xfrm>
            <a:off x="6944760" y="5145120"/>
            <a:ext cx="19299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redential 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Form 954370" descr=""/>
          <p:cNvPicPr/>
          <p:nvPr/>
        </p:nvPicPr>
        <p:blipFill>
          <a:blip r:embed="rId1"/>
          <a:stretch/>
        </p:blipFill>
        <p:spPr>
          <a:xfrm>
            <a:off x="2916360" y="2708280"/>
            <a:ext cx="3257280" cy="1481040"/>
          </a:xfrm>
          <a:prstGeom prst="rect">
            <a:avLst/>
          </a:prstGeom>
          <a:ln w="0">
            <a:noFill/>
          </a:ln>
        </p:spPr>
      </p:pic>
      <p:sp>
        <p:nvSpPr>
          <p:cNvPr id="171" name="TextBox 74"/>
          <p:cNvSpPr/>
          <p:nvPr/>
        </p:nvSpPr>
        <p:spPr>
          <a:xfrm>
            <a:off x="2840760" y="6477120"/>
            <a:ext cx="3219480" cy="30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fident</a:t>
            </a:r>
            <a:r>
              <a:rPr b="0" lang="en-US" sz="1600" spc="-1" strike="noStrike">
                <a:solidFill>
                  <a:srgbClr val="000000"/>
                </a:solidFill>
                <a:latin typeface="Segoe UI"/>
              </a:rPr>
              <a:t> |  </a:t>
            </a: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Clear</a:t>
            </a:r>
            <a:r>
              <a:rPr b="1" lang="en-US" sz="1600" spc="-1" strike="noStrike">
                <a:solidFill>
                  <a:srgbClr val="bbe0e3"/>
                </a:solidFill>
                <a:latin typeface="Segoe U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egoe UI"/>
              </a:rPr>
              <a:t>|  </a:t>
            </a:r>
            <a:r>
              <a:rPr b="1" lang="en-US" sz="1600" spc="-1" strike="noStrike">
                <a:solidFill>
                  <a:srgbClr val="99ff33"/>
                </a:solidFill>
                <a:latin typeface="Arial"/>
              </a:rPr>
              <a:t>Conn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2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4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6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8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2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4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6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8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2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4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6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8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2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4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6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8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2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4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6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8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2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64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6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8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7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2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4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76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78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8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82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4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6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8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9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92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4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96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98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2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4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6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8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12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14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16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18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22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24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26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28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32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34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36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38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42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Fazi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Tahoma"/>
              </a:rPr>
              <a:t>Vista ist kein bahnbrechendes System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Features wie „Voll skalierbare Oberflächen“ und „WinFS“ fehl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Tahoma"/>
              </a:rPr>
              <a:t>Vista ist ein sehr gut abgerundetes X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Stylisches Interfa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Coole Performance Too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Sehr gut nutzbares Backu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Bessere Sicherhe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Schnelle und einfache Suchmöglichkeit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Besseres Wireless Network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Besserer Notebook Suppo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Besseres Window Management dank DW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Verbesserte Stabilitä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Link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ating A Bootable WinPE 2.0 USB Key</a:t>
            </a:r>
            <a:br>
              <a:rPr sz="2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ttp://windowsconnected.com/blogs/joshs_blog/archive/2007/02/05/creating-a-bootable-winpe-2-0-usb-key.aspx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est-Buy Vista Videos</a:t>
            </a:r>
            <a:br>
              <a:rPr sz="2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http://images.bestbuy.com/BestBuy_US/en_US/images/computers/features/windowsvista/vid_easier.wvx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http://images.bestbuy.com/BestBuy_US/en_US/images/computers/features/windowsvista/vid_enhanced.wvx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http://images.bestbuy.com/BestBuy_US/en_US/images/computers/features/windowsvista/vid_entertain.wvx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http://images.bestbuy.com/BestBuy_US/en_US/images/computers/features/windowsvista/vid_mobile.wvx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The End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anke für‘s Zuhör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Suchen in Vista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Suchen in Vist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1628280"/>
            <a:ext cx="4329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48760" indent="-248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tartmenü Such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8600" indent="-26064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urchsucht gesamten Index und das Startmen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8600" indent="-26064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austregel: Alles, was im Explorer im Ordner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&lt;Benutzername&gt;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unterhalb von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Desktop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enthalten ist, wird out-of-the-box durchsuc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8600" indent="-26064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avoriten, Verlauf, Kontakte, E-Mails werden ebenfalls durchsuc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5000760" y="1785960"/>
            <a:ext cx="39240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Suchen in Vist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rweiterte und natürlich sprachliche Such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uchanfragen, wie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documents modified last month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der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kind:docs modified:last month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ind mögl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ur Aktivierung sind folgende Schritte notwendi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Im Windows Explorer auf </a:t>
            </a:r>
            <a:r>
              <a:rPr b="0" i="1" lang="de-DE" sz="2000" spc="-1" strike="noStrike">
                <a:solidFill>
                  <a:srgbClr val="000000"/>
                </a:solidFill>
                <a:latin typeface="Tahoma"/>
              </a:rPr>
              <a:t>Organize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klic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Tahoma"/>
              </a:rPr>
              <a:t>Folder and Search Options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wähl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uf dem </a:t>
            </a:r>
            <a:r>
              <a:rPr b="0" i="1" lang="de-DE" sz="2000" spc="-1" strike="noStrike">
                <a:solidFill>
                  <a:srgbClr val="000000"/>
                </a:solidFill>
                <a:latin typeface="Tahoma"/>
              </a:rPr>
              <a:t>Search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Tab die Option </a:t>
            </a:r>
            <a:r>
              <a:rPr b="0" i="1" lang="de-DE" sz="2000" spc="-1" strike="noStrike">
                <a:solidFill>
                  <a:srgbClr val="000000"/>
                </a:solidFill>
                <a:latin typeface="Tahoma"/>
              </a:rPr>
              <a:t>Use natural language search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wähl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prachumfang: </a:t>
            </a:r>
            <a:br>
              <a:rPr sz="2400"/>
            </a:br>
            <a:r>
              <a:rPr b="0" lang="de-DE" sz="1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msdn2.microsoft.com/en-us/library/aa965711.aspx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itere Infos: </a:t>
            </a:r>
            <a:br>
              <a:rPr sz="2400"/>
            </a:br>
            <a:r>
              <a:rPr b="0" lang="de-DE" sz="14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blogs.msdn.com/cheller/archive/2006/12/05/advanced-query-syntax-what-where-why-and-how.aspx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Suchen in Vist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Jede Suche kann gespeichert werden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Nach einer Suche im Windows Explorer den Button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Save Search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klic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uchen werden im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Searche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Ordner gespeich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uchen werden als XML Dateien mit der Endung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.search-m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gespeich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Desktop Composition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sktop Composit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ird durch den Desktop Window Manager  (DMW) gesteuert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inzelne Fenster werden nicht mehr angewiesen Ihren sichtbaren Bereich selbst auf den Bildschirm zu zeichn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Jedem Fenster wird ein sog.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offscreen surface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(Bitmap, Textur, Puffer) zugewies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er DWM komponiert aus diesen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offscreen surfaces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en eigentlichen Deskto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20:15:54Z</dcterms:created>
  <dc:creator>Jens Schaller</dc:creator>
  <dc:description/>
  <dc:language>en-US</dc:language>
  <cp:lastModifiedBy>Jens Schaller</cp:lastModifiedBy>
  <dcterms:modified xsi:type="dcterms:W3CDTF">2007-03-02T06:39:29Z</dcterms:modified>
  <cp:revision>95</cp:revision>
  <dc:subject/>
  <dc:title>Vortragstitel</dc:title>
</cp:coreProperties>
</file>