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5A72-4611-4210-B6C4-C8B4071B7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FBB8-2E7C-4FFD-B598-1752D3426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08EB-861B-4226-AA6E-35D63C31B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F4B3-CFFF-4A62-9CE7-74D4F813D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C0D4-8180-415D-B324-DEE5E38FDE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88FD-E82F-485A-95A6-75DB9A0A2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B340-E2D3-4C7F-9E15-372F67431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E8B7-3B2F-41B7-8D8C-7F8A5D976F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EE16-36E0-4AA3-B6A7-A02A63C7F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D9A9-4871-474F-91FD-D39F88B7E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A51F-156A-4E95-A51A-078039DAFC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CDD9-3C4C-49D3-90B1-C56D90757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30AA-45EF-4628-86F7-3108E3546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b-1@psimarron.net" TargetMode="External"/><Relationship Id="rId2" Type="http://schemas.openxmlformats.org/officeDocument/2006/relationships/hyperlink" Target="http://www.jochen.jochen-manns.de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3640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 Architektur</a:t>
            </a:r>
            <a:br>
              <a:rPr sz="3200"/>
            </a:br>
            <a:r>
              <a:rPr b="1" i="1" lang="de-DE" sz="2400" spc="-1" strike="noStrike">
                <a:solidFill>
                  <a:srgbClr val="f69200"/>
                </a:solidFill>
                <a:latin typeface="Verdana"/>
              </a:rPr>
              <a:t>Am Beispiel des VCR.NET Recording Service</a:t>
            </a:r>
            <a:endParaRPr b="1" lang="en-US" sz="2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2896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4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r. Jochen M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to:dvb-1@psimarr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site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jochen.jochen-mann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6"/>
          <p:cNvSpPr/>
          <p:nvPr/>
        </p:nvSpPr>
        <p:spPr>
          <a:xfrm>
            <a:off x="0" y="2571840"/>
            <a:ext cx="9144000" cy="1429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4" descr="Bild1.jpg"/>
          <p:cNvPicPr/>
          <p:nvPr/>
        </p:nvPicPr>
        <p:blipFill>
          <a:blip r:embed="rId3"/>
          <a:srcRect l="0" t="0" r="0" b="55965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92360" y="2205000"/>
            <a:ext cx="4896000" cy="3313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50028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284720" y="2924280"/>
            <a:ext cx="1582560" cy="8650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156360" y="5805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411280" y="3860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93640" y="35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 rot="16200000">
            <a:off x="5182920" y="3607920"/>
            <a:ext cx="2809800" cy="1441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444360" y="2924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908000" y="3645000"/>
            <a:ext cx="360360" cy="6476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hr Ideen…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basierter SOAP Server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macht eigentlich nicht vi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 Kommunikationsverlust, 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os der (paar) Anwender haben Client =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kann auch der Dienst den Client ma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3: Kompatibil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l brech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SOAP Remoting inkompati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ASP.NET SOAP eleg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10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moting durch ASP.NET Hosting erset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 wenn möglich anb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üngliche ASP.NET SOAP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.asmx für alt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20.asmx für neu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Funktionalität in neuen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mühs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für alle Windows Version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ganz triv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ollständiger IIS (e.g. Dateizugrif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ganz fehlerfrei (e.g. Chun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 bisschen Code drum herum notwe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ASP.NET 2.0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wendung übernimmt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via Cassini (nie gema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via HttpListener und Http.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ASP.NET AppDomain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shalByRef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.S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2k+3 (kein Win2k), Win XP SP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CP/IP Por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 5.1 nutzt das leider n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492360" y="2205000"/>
            <a:ext cx="4896000" cy="446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2637000"/>
            <a:ext cx="1943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284720" y="2924280"/>
            <a:ext cx="1582560" cy="72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6084720" y="126828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411280" y="2997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393640" y="26575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V="1" rot="5400000">
            <a:off x="5759280" y="2168280"/>
            <a:ext cx="1512720" cy="1297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444360" y="3429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286880" y="30686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427640" y="3789360"/>
            <a:ext cx="1296720" cy="22320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37175">
                <a:moveTo>
                  <a:pt x="3600" y="0"/>
                </a:moveTo>
                <a:arcTo wR="3600" hR="3600" stAng="16200000" swAng="-5400000"/>
                <a:lnTo>
                  <a:pt x="0" y="33575"/>
                </a:lnTo>
                <a:arcTo wR="3600" hR="3600" stAng="10800000" swAng="-5400000"/>
                <a:lnTo>
                  <a:pt x="18000" y="37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501440" y="39322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00720" y="4797360"/>
            <a:ext cx="1152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5280" y="465300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2411280" y="5013360"/>
            <a:ext cx="2016360" cy="216000"/>
          </a:xfrm>
          <a:prstGeom prst="rightArrow">
            <a:avLst>
              <a:gd name="adj1" fmla="val 50000"/>
              <a:gd name="adj2" fmla="val 233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341800" y="465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parate Aufzeichnungsproz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 in eigener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App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SOAP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entlich performanter: weniger Kommun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s für spezielle 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Dien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mit Fremd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4: Migrationsschie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Remoting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-v2.6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e ursprünglich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2.7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mstellung ASP.NET Hosting aufwä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eber erst mal eine Baust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3.0-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würde weiterhin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Host find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Service: beste Lebenszeitkontro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: beste ASP.NET Umgeb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tokolle defin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ortschicht wie SOAP über HT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, stabile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 ASMX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e Schnittstel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konzip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und alles dazwis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llstricke – ein Auszu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/Invoke und MFC Extension 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# Klasse von C++ Klasse abl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rtuelle Fun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InterOp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gnaturen und Preserv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nPowerEvent .NET 1.1 vs. 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AppDomain Re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und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itializeLifetimeService gegen spotanes Ster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blemstel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urze Übers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chliches Problem ist hier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das T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/ Server Architekt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forderungen an den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sequenzen für den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storische Entwick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 paar Fallstric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OnPowerEv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lafzustand (StandBy / Hibern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Schlafengehen mit V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Service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lle Protokollunterstü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to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ung erhal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Service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eto, indeterministische Aufrufreihenfol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4" descr="j0286034"/>
          <p:cNvPicPr/>
          <p:nvPr/>
        </p:nvPicPr>
        <p:blipFill>
          <a:blip r:embed="rId1"/>
          <a:stretch/>
        </p:blipFill>
        <p:spPr>
          <a:xfrm>
            <a:off x="4643280" y="5445000"/>
            <a:ext cx="505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m En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jochen.jochen-manns.d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CR.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VCR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DVB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highpaqnet.de/Forum/index.php?showforum=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-S PCI Karte 2003 gekau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Aufzeichnungen auf dem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rnsehen / Radio absolut nebensäch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kos vorhandener 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Hersteller oder and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er muss angemelde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muss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Task Scheduler verwend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ute etwas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die Hardware ohne Anw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lafzustand und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Task Sched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# /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DVB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Sehr) properitär (MFC Extension D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 basiert (Microsoft B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1: Faktoris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ständige DVB Biblioth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schließlich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nutzt di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ümmert sich um die 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altet den Schlafzu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 von der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zeichnungsproze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 Hardware manchmal zick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de Aufzeichnung in eigenem 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munikation über Standard In /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objekte Dien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z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twortobjekte Prozess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e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Lebenszyk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Cli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OAP Zugr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mals .NET 1.1 Rem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so ei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ventionelle Techni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als SOA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Remoting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weiterungen zum Zugriffsschu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2: SOAP Prox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 Reference auf unterster Eb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 erzeu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wache Implement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he am Netzwerkprotok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Semantik der Datenstruktu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xy Assemb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apselt die Web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gt Semantik hinz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thoden Add und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MT / UTC Zeit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lokale Z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AP Schnittstelle zu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bliothek zum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hmus für Planung von Aufzeichn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fzeichnungs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 zur Kommun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r SOAP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5:59Z</dcterms:created>
  <dc:creator>Dr. Jochen Manns</dc:creator>
  <dc:description/>
  <dc:language>en-US</dc:language>
  <cp:lastModifiedBy>Roland Weigelt</cp:lastModifiedBy>
  <dcterms:modified xsi:type="dcterms:W3CDTF">2007-04-22T12:06:17Z</dcterms:modified>
  <cp:revision>52</cp:revision>
  <dc:subject/>
  <dc:title>Folie 1</dc:title>
</cp:coreProperties>
</file>