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425F-656C-4D70-819F-51A2B9CB6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6E2C-A048-4C12-A1B4-E0090E1F7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3F56-CF40-434B-A84F-62A87B9B2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CF16-109D-4D4A-8D5A-D906FBF90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C701-43E1-4900-85C3-1FEFA5122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0E3B-612F-4E20-853C-018AD4B42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0859-A4F3-480C-92AD-6E7033944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EBE3-A6E1-4005-BA60-3BA3272F6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9680-926D-40E0-9895-365DF1396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933F-2D00-4A0A-AE57-AF40176E5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2529-4C87-46D6-9903-3E7145469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1061-A46A-4EC0-9BF6-4A8488E04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20CC-C670-4013-A8E1-8D022ADFA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IKVM</a:t>
            </a:r>
            <a:br>
              <a:rPr sz="3600"/>
            </a:br>
            <a:br>
              <a:rPr sz="1200"/>
            </a:br>
            <a:r>
              <a:rPr b="1" lang="de-DE" sz="2800" spc="-1" strike="noStrike">
                <a:solidFill>
                  <a:srgbClr val="f69200"/>
                </a:solidFill>
                <a:latin typeface="Verdana"/>
                <a:ea typeface="Times New Roman"/>
              </a:rPr>
              <a:t>Java und .NET integrieren</a:t>
            </a:r>
            <a:r>
              <a:rPr b="1" lang="de-DE" sz="2800" spc="-1" strike="noStrike">
                <a:solidFill>
                  <a:srgbClr val="f692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80700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1.08.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rhard Schle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(4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erwendung von Java-Bibliotheken in 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r Java-Bytecode einer Bibliothek wird durch einen Kompiler in .NET-Bytecode (Assembly) überführt:</a:t>
            </a:r>
            <a:br>
              <a:rPr sz="2800"/>
            </a:br>
            <a:r>
              <a:rPr b="1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c</a:t>
            </a:r>
            <a:r>
              <a:rPr b="0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 –out:Lib.dll –target:library Lib.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rzeugte .NET-Assembly kann dann in .NET-Entwicklung wie üblich verwendet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[Demo folgt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(5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ntwicklung von .NET-Anwendungen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wendung in Java entwicke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bei bei Bedarf .NET-Bibliotheken verwenden (Stub-Generierung mit </a:t>
            </a:r>
            <a:r>
              <a:rPr b="1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stub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wendung Java-kompilieren und dann mit</a:t>
            </a:r>
            <a:br>
              <a:rPr sz="2800"/>
            </a:br>
            <a:r>
              <a:rPr b="1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c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eine .NET-Anwendung transform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mo für Einsatzmöglichkeit 2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Verwendung von Java-Bibliotheken in .NET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Bibliothek zur Erzeugung von TreeMap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siehe Links) herunterladen und Java-kompil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t </a:t>
            </a:r>
            <a:r>
              <a:rPr b="1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c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us dem Java-Kompilat die .NET-Assembly TreeMaps.dll erzeugen: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c -out:treemaps.dll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-target:library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-recurse:.\*.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e Assembly TreeMaps.dll in einer .NET-Konsolenanwendung verwenden,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m eine TreeMap zu berechn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und GNU.Classpath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verwendet GNU.Class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GNU Classpath, Essential Libraries for Java, is a GNU project to create free core class libraries for use with virtual machines and compilers for the java programming language.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NU.Classpath wird in Form von IKVM.GNU.Classpath.dll kompiliert mit IKVM ausgelief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und GNU.Classpath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kennt also genau die in GNU.Classpath implementierten Java-Bibliothe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halb ist stets zu prüfen, ob die Java-Anwendung oder Java-Bibliothek Funktionen aufruft, die GNU.Classpath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icht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mplement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ter Umständen tritt das Problem erst zur Laufzeit auf ("NotImplementedException" aus GNU.Classpa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und GNU.Classpath (3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ie Abhängigkeit zu GNU.Classpath stellt ein Risiko beziehungsweise einen Mehraufwand für Kompatibilitätsprüfungen dar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... aber irgendeine Implementierung der Java-Klassenbibliotheken muß man schließlich verwend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bleme und Risik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Kompatibilität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Bibliotheken in GNU.Class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ufzeitperformance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utlich langsamer als in "nativen" JV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ehlersuche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bugging problematis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chtliche Frag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ersuch eines Fazi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"Wann sollte IKVM eingesetzt werden?"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kennt keine pauschale Antwor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sten der Integration in den Entwicklungsprozess berücksichtige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nötigt man wirklich eine Java-Codebasis, wen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 für .NET entwickel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440" indent="-352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ie Antwort hängt stark vom Umfeld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d der Art der Entwicklung ab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Fragen?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ivate Aufgabenstel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Source-Bibliothek zur Generierung von TreeMaps ausprob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ibliothek ist in Java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as tun - als .NET-Entwickl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anke!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ikvm.net/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NU Classpath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gnu.org/software/classpath/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Soft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mainsoft.com/products/index.aspx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JNBridge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jnbridge.com/jnbpro.ht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"JUMP to .NET"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msdn2.microsoft.com/en-us/vjsharp/aa718346.asp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reemap-Algorithmen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cs.umd.edu/hcil/treemap-history/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 recherchier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ie steht es mit Java 1.5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Java und .NET integrier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in wichtiges Th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ele Artikel und Blog-Einträ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rsparnispotenti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achsendes Angebot auf dem Mark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A-Zei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elfältige Lösungsmöglichkeiten verschiedener Anbi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ösungen und Anbieter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Soft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möglicht es, .NET-Anwendungen (auch ASP.NET)  dahingehend zu übersetzen (Bytecode), daß sie in einer J2EE-Umgebung laufen, u.U. auch für bestimmte Applikationsserver optimiert ("Grashopper" frei verfügbar: ASP.NET -&gt; Tomca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JNBridge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irbt mit "Access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yth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Java from .NET" und umgekehrt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ahlweise dienen Shared Memory, Sockets, ein spezielles (binäres) Netzwerkprotokoll oder Netzwerkkommunikation über HTTP/SOAP als Brüc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crosoft J#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Quellcode wird nach J# konvertiert (J#-Projekt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d kann dann in .NET-Assembly übersetz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ösungen und Anbieter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rcosoft "JUMP to .NET"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"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va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er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gration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th to .NET": Java-Quellcode wird i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#-Quellcode übersetz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"IKVM.NET is an implementation of Java for Mono and the Microsoft .NET Framework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nweis: keine erschöpfende Liste, sondern Ergebnis einer schnellen Recher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chnische Varian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Kommunikations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ssaging, HTTP/SOAP, SharedMemory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Übersetzungs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code-Übersetzung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Sourcen -&gt; C#-Sourc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ytecode-Übersetzung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Bytecode -&gt; .NET-Byt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-Source-Implementierung von Java für Mono und Microsoft .NET Framework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ktuelle Version: 0.34.0.2 vom 5. Mai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arbeitet "übersetzungsorientiert"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Bytecode wird in .NET-Bytecode transform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Quelltexte sind somit nicht erforderlich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rei verschiedene Einsatzmöglichk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als "drop-in JVM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wendung von Java-Bibliotheken i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NET-Anwendun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twicklung von .NET-Anwendungen in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KVM (3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643040"/>
            <a:ext cx="878544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als "drop-in JVM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tt mit einer Java VM (z.B. von Sun) eine Java-Anwendung einfach mit IKVM ausführen:</a:t>
            </a:r>
            <a:br>
              <a:rPr sz="2800"/>
            </a:br>
            <a:r>
              <a:rPr b="1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ikvm</a:t>
            </a:r>
            <a:r>
              <a:rPr b="0" lang="de-DE" sz="2800" spc="-1" strike="noStrike">
                <a:solidFill>
                  <a:srgbClr val="808080"/>
                </a:solidFill>
                <a:latin typeface="Tahoma"/>
                <a:ea typeface="Times New Roman"/>
              </a:rPr>
              <a:t> MyApp.clas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statt "java MyApp.class"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va-Bytecode wird dann "just in time" in .NET-Klassen überfüh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KVM ist also eine Java VM-Implementierung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09:06:09Z</dcterms:created>
  <dc:creator>Gerhild Schlemm</dc:creator>
  <dc:description/>
  <dc:language>en-US</dc:language>
  <cp:lastModifiedBy>Gerhard Schlemm</cp:lastModifiedBy>
  <dcterms:modified xsi:type="dcterms:W3CDTF">2007-08-28T05:23:00Z</dcterms:modified>
  <cp:revision>125</cp:revision>
  <dc:subject/>
  <dc:title>IVKM  Java und .NET integrieren </dc:title>
</cp:coreProperties>
</file>